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png" ContentType="image/png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2A7D-5198-497C-BDC1-FADF96A28A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3B3C-119E-4542-84F8-59195AEEE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E188E-B326-43AB-B2DA-5C2035DC3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0066B-CE0C-47DA-AAC7-9B78F4E6D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9EA8E-77C9-490A-BFBA-CD0DC1F23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B51B3-79FE-4546-B41A-1A29F18F2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D0F6-B521-470C-B869-30D9AA65C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1F4B6-35E4-40FA-9FAA-A4D7627CE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D2EF4-A922-4CF4-A338-7BDFE97CA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80580-A68F-4716-B535-D833D0AEC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552D6-588C-4491-9406-206F27EAC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B72C-5A6A-499E-B26C-BBB4A7771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DBE7-A5F6-4D5E-BF19-90647DFD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24B6-759E-4A9D-BDCD-53FAA8FFF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37A2E-6781-484F-BE14-D1D8D7EE0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B02EC-96BB-4443-ACB5-44E52B9AC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35C8F-4021-4BCD-89E5-E88E2C083E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AE548-C41A-42A6-B352-2AAEB101C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AFF3-DCC2-48CC-8611-69F7112F2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1EF-6D3C-42D3-900E-C9364051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FCE-8AC5-478F-8507-8EAC3FBBF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DC0FF-2FA9-450F-A59F-9AACA2A92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CECC-7AC8-40DC-BEF5-BB91D23E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5AFC-9EBF-479F-9EB3-017FDD1EE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09E20-A15F-4711-912C-F1543DB7BFD7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B17D-286B-4FD5-ADCE-F6E237498E4D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981080" y="3962520"/>
            <a:ext cx="651348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image" Target="../media/image15.wmf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1523520"/>
            <a:ext cx="7624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The Macroeconomic Effects of Pension Reform in Russia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981080" y="4038120"/>
            <a:ext cx="6553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aune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national Monetary F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views expressed herein are those of the author and should not be attributed to the IMF, its Executive Board, or its manag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imulate Effects Of Budget Financing To Fill Gap To A Replacement Rate of 30%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Financing gap peaks at 4%GDP in 203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5 scenarios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e deb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e V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crease profit tax and U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duce government inves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8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Reduce government consum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eparately to highlight effects, but mix more likely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mulations until 2050 in quarterly interval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harts show deviation from initial steady state in % of GDP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Debt Financing: Feasible But Suboptimal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0" y="1447920"/>
            <a:ext cx="4552920" cy="24699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527720" y="4316400"/>
            <a:ext cx="4616280" cy="25416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800600" y="121932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bt peaks at about 55%GD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kely sustainable, although concerns if financed external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D and NFA much worse than under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inconsistent with deficit limit in new budget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fair for future gen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0" y="4317840"/>
            <a:ext cx="4470480" cy="254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Higher Real Interest Rates Reduce Growth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4470480" cy="254016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4317840"/>
            <a:ext cx="4470480" cy="25401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4646520" y="4336920"/>
            <a:ext cx="4497480" cy="252108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800600" y="1752480"/>
            <a:ext cx="403848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igher real interest rates reduce investment ac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050 capital stock 10% lower than under basel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utput 3% 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sumption 6% low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Taxes Would Have To Rise Substantiall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447560"/>
            <a:ext cx="83818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AT would have to rise by 9 percentage points until 2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ld be largely done by raising effective rate to statutory 18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fit tax/UST would BOTH have to rise by 15 percentage po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3551400"/>
            <a:ext cx="4606920" cy="330660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464000" y="3578400"/>
            <a:ext cx="4680000" cy="3279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066680" y="3048120"/>
            <a:ext cx="2438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fbf39"/>
                </a:solidFill>
                <a:latin typeface="Arial"/>
              </a:rPr>
              <a:t>V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591160" y="304812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fbf39"/>
                </a:solidFill>
                <a:latin typeface="Arial"/>
              </a:rPr>
              <a:t>Profit Tax and U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Among Tax Policy Measures, Raising VAT Is Preferable, But UST Also Has A Rol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4616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T less distortionary </a:t>
            </a: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ower negative effect on grow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T base is less undermined by aging than those of profit tax and U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it tax is most distortionary because it reduces capital accumulation, which lowers growth in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ac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tur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or taxes fall in the middle between VAT and profit ta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T has special role as main funding of pension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 erosion in UST revenue due to its regressive scale should be halted—this is assumed in the bas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ld fund basic pension from general revenue if define them as labor-independent transfer (as, e.g., Denmark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Rather Raise VAT Than Profit Tax/US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1676520"/>
            <a:ext cx="4516560" cy="257148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619520" y="1711440"/>
            <a:ext cx="4524480" cy="256068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1066680" y="1066680"/>
            <a:ext cx="2438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fbf39"/>
                </a:solidFill>
                <a:latin typeface="Arial"/>
              </a:rPr>
              <a:t>VA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91160" y="1066680"/>
            <a:ext cx="274320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fbf39"/>
                </a:solidFill>
                <a:latin typeface="Arial"/>
              </a:rPr>
              <a:t>Profit Tax and U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3"/>
          <a:stretch/>
        </p:blipFill>
        <p:spPr>
          <a:xfrm>
            <a:off x="0" y="4290840"/>
            <a:ext cx="4460760" cy="256716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4464000" y="4300560"/>
            <a:ext cx="4680000" cy="255744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994200" y="2774880"/>
            <a:ext cx="533520" cy="38124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610480" y="2975040"/>
            <a:ext cx="533520" cy="38088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40200" y="5838840"/>
            <a:ext cx="533520" cy="38088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575560" y="6019920"/>
            <a:ext cx="533520" cy="38088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utting Public Investment Is Wor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38188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mong all budget measures, cutting government investment is worst as reduction in capital stock has cumulative negative output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need reasonable return on investment, otherwise cutting investment is still better than raising VAT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xpenditure efficiency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ontrast, cutting public consumption has lowest negative eff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33520" y="3276720"/>
            <a:ext cx="35812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fbf39"/>
                </a:solidFill>
                <a:latin typeface="Arial"/>
              </a:rPr>
              <a:t>Government Inves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76920" y="3276720"/>
            <a:ext cx="37335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fbf39"/>
                </a:solidFill>
                <a:latin typeface="Arial"/>
              </a:rPr>
              <a:t>Government Consum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3876840"/>
            <a:ext cx="4506840" cy="26049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738680" y="3855960"/>
            <a:ext cx="4405320" cy="257976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62520" y="5562720"/>
            <a:ext cx="533160" cy="38088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610480" y="5029200"/>
            <a:ext cx="533520" cy="38088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utting Public Consumption Is Bes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7" name=""/>
          <p:cNvSpPr/>
          <p:nvPr/>
        </p:nvSpPr>
        <p:spPr>
          <a:xfrm>
            <a:off x="485640" y="3352680"/>
            <a:ext cx="35816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fbf39"/>
                </a:solidFill>
                <a:latin typeface="Arial"/>
              </a:rPr>
              <a:t>Government Investm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181480" y="3352680"/>
            <a:ext cx="3733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afbf39"/>
                </a:solidFill>
                <a:latin typeface="Arial"/>
              </a:rPr>
              <a:t>Government Consump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3951360"/>
            <a:ext cx="4451400" cy="25765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4884840" y="3962520"/>
            <a:ext cx="4259160" cy="256860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962520" y="5638680"/>
            <a:ext cx="533160" cy="38124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8610480" y="5334120"/>
            <a:ext cx="533520" cy="38088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143000"/>
            <a:ext cx="83818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tting public consumption even allows higher private consumption by replacing public consumption with transfers 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fficiency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overnment consumption would have to decline by 1/4 until 20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entirely unrealistic: estimated room for efficiency gains = 1/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wever, Baumol and Wagner effects will work in opposite dir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other reason to prioritize expenditure efficiency! (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Hauner, 200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onclusions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ivate savings and privatizations are good policies but are likely to be only a small part of the solu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il wealth is insufficient and should not be us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radual increase in retirement age would be optim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ly realistic alternative to this is budget financ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hould be considered a contingent li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lanced mix of lower government consumption and higher retirement age could stabilize replacement 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void cutting investment, raising taxes, or raising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discussed here but also important: improvements to confidence in financial marke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crease competition among mutual fund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5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oundness of the banking and mutual fund indu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Motivation: Without Reform, Rapid Drop In Replacement Rate Of Public System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741320"/>
            <a:ext cx="9144000" cy="51166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0" y="2666880"/>
            <a:ext cx="533520" cy="30492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560" y="4861080"/>
            <a:ext cx="533160" cy="304560"/>
          </a:xfrm>
          <a:prstGeom prst="ellipse">
            <a:avLst/>
          </a:prstGeom>
          <a:noFill/>
          <a:ln w="9360">
            <a:solidFill>
              <a:srgbClr val="afbf3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3124080"/>
            <a:ext cx="380880" cy="1828800"/>
          </a:xfrm>
          <a:prstGeom prst="downArrow">
            <a:avLst>
              <a:gd name="adj1" fmla="val 50000"/>
              <a:gd name="adj2" fmla="val 120038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048120" y="3581280"/>
            <a:ext cx="3200400" cy="685800"/>
          </a:xfrm>
          <a:prstGeom prst="wedgeRoundRectCallout">
            <a:avLst>
              <a:gd name="adj1" fmla="val -1486"/>
              <a:gd name="adj2" fmla="val 133564"/>
              <a:gd name="adj3" fmla="val 16667"/>
            </a:avLst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igher returns effective only with very long la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Such A Decline In Replacement Rate Of Public System Is Probably Unsustainable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Social pressures for pension increases have already in recent years led to higher budget transfers to stem decline in replacement rat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This is likely to continue, particularly as the average age of the electorate increase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International benchmarks suggest that Russia’s replacement rate is already very low—although it may be higher than it look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2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Arial"/>
              </a:rPr>
              <a:t>Rising wealth raises demand for social securit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Option 1: Private Saving—Very Desirable Policy, But Pitfalls In Implementation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gher savings mitigate looming large 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ost for financial mark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nergies with privatiz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1: Participation likely to be limited (10%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iquidity constraint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24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al hazard (government bail-out: Chile, UK, …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2: Timing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mpact on replacement rate small until 2040 (Gurvich, 200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3: Concerns about market size, compet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Option 2: Raising The Retirement Age—The Most Effective and Optimal Policy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fe expectancy at retirement currently 14 years for men, 23 years for wo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transition countries with similar demographics adopted gradual increa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uld slow decline in the work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ising retirement age to 65 in 2040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2 (4) months per year for men (wome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00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lacement rate 15 percentage points hig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Option 3: Higher Budget Transfers—Probably Up To 4% Of GDP Per Year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741320"/>
            <a:ext cx="9144000" cy="51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Option 3: Privatization, Oil—Undesirable Side Effects And Far From Sufficient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ivatization would be an attractive o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nergies with encouraging private sav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fficiency ga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: Problematic for intergenerational equ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tential volume of 20%GDP (Gaidar, 2007) = only ½ of NPV needed to stabilize 2006 replacement 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ing oil funds would undermine their rationa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lowing real appreci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60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enerational smoothing of oil w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Fixing Pensions With Oil Funds Depletes Them Even Before Funding Need Peaks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1882800"/>
            <a:ext cx="9144000" cy="47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Only Real Alternative To Retirement Age Hike: Higher Taxes Or Lower Spending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79352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nalyze macro effects in multi-country dynamic general equilibrium mod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 Integrated Monetary and Fiscal Model” (GIMF) developed at IMF (Kumhof, Laxton, 2007)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Non-Ricardian features for fiscal policy analysi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Overlapping generations with finite lives and myopia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lnSpc>
                <a:spcPct val="9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Some consumers are liquidity-constrained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Distortionary payroll and capital income tax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Public investment increases private sector productivi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Several nominal and real rigiditi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lnSpc>
                <a:spcPct val="90000"/>
              </a:lnSpc>
              <a:spcBef>
                <a:spcPts val="575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Inflation-targeting central bank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0">
              <a:lnSpc>
                <a:spcPct val="90000"/>
              </a:lnSpc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28T13:50:22Z</dcterms:created>
  <dc:creator>David Hauner</dc:creator>
  <dc:description/>
  <dc:language>en-US</dc:language>
  <cp:lastModifiedBy>David Hauner</cp:lastModifiedBy>
  <dcterms:modified xsi:type="dcterms:W3CDTF">2008-03-27T19:52:36Z</dcterms:modified>
  <cp:revision>57</cp:revision>
  <dc:subject/>
  <dc:title>Slide 1</dc:title>
</cp:coreProperties>
</file>