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51840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403C0-514D-4748-9D86-CA09BF3260B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03840" y="951876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C70A8-22BA-49D2-80F2-8D906417FA5E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9080" y="475920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E1E-759E-4D43-AB1C-4E65BB21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F3D-3372-46E4-8E3A-5A92E0A3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AC0-3ED5-45B1-8091-121220CE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143-D258-4D9D-90D0-01CB46FD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AD9-F60F-4693-8CBF-981E3899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EDE-734E-4F74-B420-E0B65700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558-D045-4980-A934-16834CB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8E9-811B-4E7C-B1B7-F1F4E538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6945-2369-482C-B795-6BB61953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9A9-0A07-42FF-B143-0AE9B45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FEF-FE86-424F-A10A-65696269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107-AA61-4335-906D-5B76E112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B70B-D130-4E82-B39C-1F9BB1C2B6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СТИТУТ МИРОВОЙ ЭКОНОМИКИ И МЕЖДУНАРОДНЫХ ОТНОШЕНИЙ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огноз развития мировой экономики до 2020 г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X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онференция ГУ ВШ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«Модернизация экономики и глобализац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 апреля 200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868520" y="632448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Garamond"/>
              </a:rPr>
              <a:t>Прогноз финансового обеспечения науки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Garamond"/>
              </a:rPr>
              <a:t>ведущих стран и регионов мира,</a:t>
            </a:r>
            <a:br>
              <a:rPr sz="2400"/>
            </a:br>
            <a:r>
              <a:rPr b="1" lang="ru-RU" sz="2400" spc="-1" strike="noStrike">
                <a:solidFill>
                  <a:srgbClr val="ccffff"/>
                </a:solidFill>
                <a:latin typeface="Garamond"/>
              </a:rPr>
              <a:t>(расходы на НИОКР к ВВП, %)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9640" y="14065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79280" y="1671480"/>
          <a:ext cx="8496360" cy="522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71480"/>
                    <a:ext cx="849636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5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Garamond"/>
              </a:rPr>
              <a:t>Доля стран и регионов</a:t>
            </a:r>
            <a:br>
              <a:rPr sz="2800"/>
            </a:br>
            <a:r>
              <a:rPr b="1" lang="ru-RU" sz="2800" spc="-1" strike="noStrike">
                <a:solidFill>
                  <a:srgbClr val="ccffff"/>
                </a:solidFill>
                <a:latin typeface="Garamond"/>
              </a:rPr>
              <a:t>в финансировании НИОКР (%)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66560" y="15145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0" y="1773360"/>
          <a:ext cx="9144000" cy="50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50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5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8764200" y="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Энергети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е потребление ПЭР в мире возрастет примерно в 1,3 раза, а мировой ВВП – в 1,9 р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е трети увеличения потребления ПЭР придётся на развивающиеся страны (1/4 – на Кита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инирующее положение сохранится за топливно-энергетическими ресурсами органического происх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ится снижение энергоёмкости мировой экономики. Потребление нефти на 1000 долл. мирового ВВП снизилось с 99 кг в 1990 г. до 75 кг в 2005 г. В 2020 г. Будет лишь 52 к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764200" y="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Росс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367160"/>
                <a:gridCol w="1908360"/>
                <a:gridCol w="19540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я в населении мира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я в мировом ВВП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в мире по общему объему ВВ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ВП на душу населения, тыс.долл. в ценах и по ППС 2005 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в мире по ВВП на душу насе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42"/>
          <p:cNvSpPr/>
          <p:nvPr/>
        </p:nvSpPr>
        <p:spPr>
          <a:xfrm>
            <a:off x="8764200" y="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Garamond"/>
              </a:rPr>
              <a:t>Методология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45720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АГ 1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численности населения на базе демографического прогноза О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енность рабочей си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регированный показатель ВВ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АГ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ртное итеративное согласование оценок ВВП (по ППС, в ценах 2005 г.) по 152 странам, их группам и регио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Object 8"/>
          <p:cNvGraphicFramePr/>
          <p:nvPr/>
        </p:nvGraphicFramePr>
        <p:xfrm>
          <a:off x="3733920" y="2057400"/>
          <a:ext cx="4381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438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9"/>
          <p:cNvGraphicFramePr/>
          <p:nvPr/>
        </p:nvGraphicFramePr>
        <p:xfrm>
          <a:off x="3733920" y="2895480"/>
          <a:ext cx="43812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895480"/>
                    <a:ext cx="438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0"/>
          <p:cNvGraphicFramePr/>
          <p:nvPr/>
        </p:nvGraphicFramePr>
        <p:xfrm>
          <a:off x="3733920" y="3657600"/>
          <a:ext cx="43812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657600"/>
                    <a:ext cx="4381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0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Garamond"/>
              </a:rPr>
              <a:t>Численность населени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693720" y="2151000"/>
          <a:ext cx="799308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2151000"/>
                    <a:ext cx="799308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2338560" y="2889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Н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338560" y="34354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286000" y="5105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Ш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362320" y="54864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79600" y="77004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лн. ч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838080" y="1752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838080" y="12952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4030560" y="1515600"/>
            <a:ext cx="1835280" cy="1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5867280" y="1295280"/>
            <a:ext cx="1866960" cy="21924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V="1">
            <a:off x="2376360" y="1665360"/>
            <a:ext cx="1835280" cy="17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5"/>
          <p:cNvSpPr/>
          <p:nvPr/>
        </p:nvSpPr>
        <p:spPr>
          <a:xfrm>
            <a:off x="2266920" y="1736640"/>
            <a:ext cx="181080" cy="18108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4030560" y="1592280"/>
            <a:ext cx="181080" cy="18108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5796000" y="1417680"/>
            <a:ext cx="181080" cy="18108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7620120" y="1295280"/>
            <a:ext cx="180720" cy="18108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2448000" y="133200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сь м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934920" y="195264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2362320" y="45720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Garamond"/>
              </a:rPr>
              <a:t>Основные результаты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годовые темпы прироста мирового ВВП в период до 2020 г. составят 4,2 – 4,3% (4,0% в 2001-2007 гг. и 2,9% в 1991-2000 гг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овой ВВП фактически удвоится с 55 трлн. долл. до 106 трлн. дол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й вклад в прирост мирового ВВП будут вносить Китай (21,3% при ежегодных темпах прироста 7,7%), США (16,8% при ежегодных темпах 3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) и Индия (7,3% при ежегодных темпах 6,6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2020 г. 48,8% населения мира будут жить в странах со средним душевым ВВП выше 10 тыс. долл. в год. В настоящее время в таких странах проживает 1,5 млрд. человек или 23,2% населения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70 млн. человек (11% населения планеты) будет жить в странах с доходом ниже 2 тыс. долл. в г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пы прироста ВВП выше мирового тренда будут у 45 стран с населением 3743 млн. человек в 2005 г. и 4220 млн. человек – в 2020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Garamond"/>
              </a:rPr>
              <a:t>Динамика мирового развития</a:t>
            </a:r>
            <a:br>
              <a:rPr sz="2800"/>
            </a:br>
            <a:r>
              <a:rPr b="1" lang="ru-RU" sz="2800" spc="-1" strike="noStrike">
                <a:solidFill>
                  <a:srgbClr val="ccffff"/>
                </a:solidFill>
                <a:latin typeface="Garamond"/>
              </a:rPr>
              <a:t>темпы прироста ВВП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200" y="1125360"/>
            <a:ext cx="2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100080" y="1341360"/>
          <a:ext cx="8761320" cy="520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341360"/>
                    <a:ext cx="876132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5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ff"/>
                </a:solidFill>
                <a:latin typeface="Garamond"/>
              </a:rPr>
              <a:t>Перспективы социально-экономического развития ведущих стран мира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ойку ведущих стран мира по общему размеру ВВП по ППС войдут Китай и Ин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иции Европы в мировой экономике будут относительно ослабе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ША, несмотря на снижение доли в мировом ВВП, удержат ведущие позиции по общему объему ВВП, производительности труда, конкурентоспособности и инноваци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93080" y="64911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403320" y="649116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Object 10"/>
          <p:cNvGraphicFramePr/>
          <p:nvPr/>
        </p:nvGraphicFramePr>
        <p:xfrm>
          <a:off x="-304920" y="2895480"/>
          <a:ext cx="64771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2895480"/>
                    <a:ext cx="6477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2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Object 16"/>
          <p:cNvGraphicFramePr/>
          <p:nvPr/>
        </p:nvGraphicFramePr>
        <p:xfrm>
          <a:off x="3809880" y="2590920"/>
          <a:ext cx="6019920" cy="45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6019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Garamond"/>
              </a:rPr>
              <a:t>Динамика ВВП на душу населени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68360" y="1413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с. дол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0" y="1143000"/>
          <a:ext cx="8991720" cy="530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9172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9"/>
          <p:cNvSpPr/>
          <p:nvPr/>
        </p:nvSpPr>
        <p:spPr>
          <a:xfrm>
            <a:off x="4040280" y="4773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267080" y="4876920"/>
            <a:ext cx="3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733920" y="3809880"/>
            <a:ext cx="5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3505320" y="36576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3200400" y="312408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4495680" y="441972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8078760" y="4724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772400" y="44197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7543800" y="32767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315200" y="3124080"/>
            <a:ext cx="4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7010280" y="2209680"/>
            <a:ext cx="4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8305920" y="36576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8080200" y="6521400"/>
            <a:ext cx="10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Глобализация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вное условие, при котором могут быть достигнуты прогнозируемые показатели экономического развития, - нарастающий процесс глобализ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хранение и расширение либерализации внешнеэкономического обмен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ационализация образ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яющийся доступ к инновационным достиж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ступ к передовым техническим стандартам и методам государственного и корпоративного управления экономик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обальная конкурен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рациональное использование всех видов ресурс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ее интенсивное включение в глобальное разделение труда Китая, Индии, России и Бразил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торможении глобализации и рецидиве протекционистских тенденций мировые темпы роста снизятся на 2-2,5 процентных пун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Инновац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обализация ускоряет мировой инновационный проце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ономически значимым будет процесс конвергенции техноло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ергосбережение останется в фокусе инновационной актив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ет нарастать процесс глобализации исследований ведущих наукоемких корпор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воение зарубежного опыта будет все чаще осуществляться за счет слияний и поглощ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100360" y="652140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МЭ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8862840" y="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8:06:05Z</dcterms:created>
  <dc:creator>GIM</dc:creator>
  <dc:description/>
  <dc:language>en-US</dc:language>
  <cp:lastModifiedBy>IMEMO</cp:lastModifiedBy>
  <dcterms:modified xsi:type="dcterms:W3CDTF">2008-03-31T11:28:39Z</dcterms:modified>
  <cp:revision>38</cp:revision>
  <dc:subject/>
  <dc:title>ИНСТИТУТ МИРОВОЙ ЭКОНОМИКИ И МЕЖДУНАРОДНЫХ ОТНОШЕНИЙ</dc:title>
</cp:coreProperties>
</file>