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828C1-19F7-46D2-818D-87B9DA754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E2A1-D9FF-4F1D-BCF3-62F1B67E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F0665-263C-4F42-A585-52385C26B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63D51-44D5-4671-8D1E-DC3516E6A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70CEF-1545-4678-9A64-167815789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1429C-FB6D-4361-A2D6-FE2019F23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5812F-6EB8-4D3D-B24B-E1F15A7A4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A4FCF-0675-4157-916C-1B7435913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7427F-A752-40D0-9C07-F1BF1B9F1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F176-D136-489A-B536-384421C6F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5BFD7-8892-438D-8DE5-861EBB5D3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361E0-6E6F-4C51-B34E-2EDB19FF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5890-E13D-42C7-B14C-8D386FC18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DF315-241E-454F-8D84-3D03CBCC4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C77CC-6D39-4E5E-85E3-F45ED8573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0B4AC-DB5A-4598-9B8F-1A865A473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635CB-7209-485D-82F6-EBB48D102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482625-4013-456F-8EF9-3809F5239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030BC-BAEB-4CFB-B2F8-18E6B1978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25636-073F-466D-89C9-C2F35C93B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DCC73-4452-4C9A-9892-341E269CE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C393C-F0ED-4238-8280-0C7C06AA3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8210E-00CA-4BB3-AB8A-B8CC4CA52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D54DA-A3E4-4866-B7BF-30021AFB4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967B2-10DB-48A2-8026-6B4C87F22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F21FE-03FD-464D-923B-1B7AB12E2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0B0B3-3A01-4271-B75F-58AE5A920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0A463-68F1-4C6F-931E-C65B97062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004A1-371D-45F1-A7CA-331728C7BF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7BCF7-BD62-48E5-9CB9-20D2325961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BC155D-B532-4A35-BDF5-31C4BDDCB7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30D87-48B8-49DE-B3C2-B6BFDD8D4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2AA18-0DEC-4F0B-9AAC-4D5CB9BAE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F1B5-1232-429D-9142-509953A8C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523755-33D2-4C44-86D4-4BCA1FDEC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F407C-4472-47FB-A9A9-44B0C9BF7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2366ED-84B4-4CED-BD2C-B77789D74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BC608-82AF-4F2A-8515-B0E41F19A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8820C-7E0B-4913-ABB2-E41066BDC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DE655-30BE-4FD9-AAC6-E7D74306D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620FE-73B5-4E58-A83A-39CB33AEA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8DCC7-1A0E-4F1F-9810-B6106C0FF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C09C00-5DC3-410F-8D8B-37170B563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0D687E-21A0-499C-A1D8-E645D2A4F9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FB83-31BC-461B-B03B-46200505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B1EF9-A82B-4B38-822A-9A0805972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2461E-794C-4C20-AC40-C69DE6C883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CB74A-62D2-476E-9F0B-C7E050600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7CB54-7FDE-496F-BBF0-CE2C2A093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C6E81-F62C-4422-A550-AD66CD991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3DFCE-5775-4EE0-A4A4-D81349503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E344C-D86E-47C8-9DF8-9630CEE9C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0C4B1-E4F5-410F-9C8F-8AFC1131E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CC280-4E0F-4EF9-AE0E-7672ECCBD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00F49D-9ADB-4DAD-B7F6-EBC2C711C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AC88-17FA-4201-9F87-1B9F4B8D1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2C70B8-C7F5-4CCD-A2B5-E6597BAE65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5C9FB3-89A6-4546-8240-82405D4711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695E0B-8207-444A-AEB8-13F143994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80BE9-4C4C-4407-9633-165A30E6B1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F2C88-4D1E-464C-B61E-340D9EE45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55FB2-48DB-4E34-99CD-60F98E62E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EED17-A8A5-4434-A046-6589D8A8D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0A601D-8291-48EA-92AC-38DCD4687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DC4FC-32BD-40D6-B641-D00C4FDA0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BF760-D864-4D54-BE25-0F5C77424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5A579-FBB5-4AAE-AA5E-688FF622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FF15B-292A-42C0-B613-3B3C82DF2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8D1602-2BD6-4E26-8BBF-08D9D73ED0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B61BC0-7A32-435E-B39B-40E01A6AEC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A05A62-149A-4A33-8389-4DBEEF5733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04B9D-6451-4E16-99FE-313832CDF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1B69A-BC81-4349-BDBF-0D9920F0C9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3680DA-A50B-4763-8535-B5ED6F418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BCC26-8F26-4D8A-9A0F-3412F97709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7A548-DAC5-4682-91F3-D2FCCBD2A1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D8FD5-3D41-4F17-9F77-BCC1AAA7E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486C-7D36-4D88-A6B9-479936F9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F6EB4-7F7A-4D66-BBFF-F59F62726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F05AF-F018-4C45-8E9B-5C2E85D5F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DFE7C3-7C84-4BD5-8CE3-7D4BBF78F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00E14C-65C9-479C-A27C-F9464C1E92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C376AB-218A-46EB-92C0-1013DADD08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587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E72C-19D9-4C27-BC92-45DC318F6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9"/>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640E-5344-47FA-8A00-75D27C86905B}"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6"/>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A40E-64F4-4553-B687-D61E7A8879EB}"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9"/>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c9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c5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c9ee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Прямоугольник 34"/>
          <p:cNvSpPr/>
          <p:nvPr/>
        </p:nvSpPr>
        <p:spPr>
          <a:xfrm>
            <a:off x="363600" y="401760"/>
            <a:ext cx="8504280" cy="887400"/>
          </a:xfrm>
          <a:prstGeom prst="rect">
            <a:avLst/>
          </a:prstGeom>
          <a:solidFill>
            <a:srgbClr val="c9ee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DDC3-480B-47C4-BFF5-2D5D55D11A2F}"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53C9-EA54-402A-87D9-FB445D530EB8}"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c9ee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Прямоугольник 18"/>
          <p:cNvSpPr/>
          <p:nvPr/>
        </p:nvSpPr>
        <p:spPr>
          <a:xfrm>
            <a:off x="87480" y="681120"/>
            <a:ext cx="457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Прямоугольник 19"/>
          <p:cNvSpPr/>
          <p:nvPr/>
        </p:nvSpPr>
        <p:spPr>
          <a:xfrm>
            <a:off x="47520" y="681120"/>
            <a:ext cx="2700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20"/>
          <p:cNvSpPr/>
          <p:nvPr/>
        </p:nvSpPr>
        <p:spPr>
          <a:xfrm>
            <a:off x="28440" y="681120"/>
            <a:ext cx="97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23"/>
          <p:cNvSpPr/>
          <p:nvPr/>
        </p:nvSpPr>
        <p:spPr>
          <a:xfrm>
            <a:off x="0" y="681120"/>
            <a:ext cx="936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24"/>
          <p:cNvSpPr/>
          <p:nvPr/>
        </p:nvSpPr>
        <p:spPr>
          <a:xfrm flipH="1">
            <a:off x="148680" y="681120"/>
            <a:ext cx="2844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25"/>
          <p:cNvSpPr/>
          <p:nvPr/>
        </p:nvSpPr>
        <p:spPr>
          <a:xfrm flipH="1">
            <a:off x="188280" y="681120"/>
            <a:ext cx="2844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Прямоугольник 26"/>
          <p:cNvSpPr/>
          <p:nvPr/>
        </p:nvSpPr>
        <p:spPr>
          <a:xfrm flipH="1">
            <a:off x="227160" y="681120"/>
            <a:ext cx="936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Прямоугольник 27"/>
          <p:cNvSpPr/>
          <p:nvPr/>
        </p:nvSpPr>
        <p:spPr>
          <a:xfrm flipH="1">
            <a:off x="255600" y="681120"/>
            <a:ext cx="79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Прямоугольник 28"/>
          <p:cNvSpPr/>
          <p:nvPr/>
        </p:nvSpPr>
        <p:spPr>
          <a:xfrm>
            <a:off x="279360" y="681120"/>
            <a:ext cx="36720" cy="36504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F00D-FBEA-41E8-A0D7-1115892D2C9E}"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3E15-0465-4468-8112-0EC5EE078797}"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9"/>
          <p:cNvSpPr/>
          <p:nvPr/>
        </p:nvSpPr>
        <p:spPr>
          <a:xfrm>
            <a:off x="255600" y="4637160"/>
            <a:ext cx="73080" cy="137880"/>
          </a:xfrm>
          <a:prstGeom prst="rect">
            <a:avLst/>
          </a:prstGeom>
          <a:solidFill>
            <a:srgbClr val="d6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Группа 19"/>
          <p:cNvGrpSpPr/>
          <p:nvPr/>
        </p:nvGrpSpPr>
        <p:grpSpPr>
          <a:xfrm>
            <a:off x="8516880" y="1217520"/>
            <a:ext cx="128160" cy="131400"/>
            <a:chOff x="8516880" y="1217520"/>
            <a:chExt cx="128160" cy="131400"/>
          </a:xfrm>
        </p:grpSpPr>
        <p:sp>
          <p:nvSpPr>
            <p:cNvPr id="316" name="Прямая соединительная линия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7" name="Прямая соединительная линия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319" name="Группа 25"/>
          <p:cNvGrpSpPr/>
          <p:nvPr/>
        </p:nvGrpSpPr>
        <p:grpSpPr>
          <a:xfrm>
            <a:off x="8669160" y="1370160"/>
            <a:ext cx="129240" cy="131400"/>
            <a:chOff x="8669160" y="1370160"/>
            <a:chExt cx="129240" cy="131400"/>
          </a:xfrm>
        </p:grpSpPr>
        <p:sp>
          <p:nvSpPr>
            <p:cNvPr id="320" name="Прямая соединительная линия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1" name="Прямая соединительная линия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рямая соединительная линия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323" name="Группа 29"/>
          <p:cNvGrpSpPr/>
          <p:nvPr/>
        </p:nvGrpSpPr>
        <p:grpSpPr>
          <a:xfrm>
            <a:off x="8321760" y="1473120"/>
            <a:ext cx="128160" cy="131400"/>
            <a:chOff x="8321760" y="1473120"/>
            <a:chExt cx="128160" cy="131400"/>
          </a:xfrm>
        </p:grpSpPr>
        <p:sp>
          <p:nvSpPr>
            <p:cNvPr id="324" name="Прямая соединительная линия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5" name="Прямая соединительная линия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Click to edit the title text format</a:t>
            </a:r>
            <a:endParaRPr b="0" lang="en-US" sz="4000" spc="-1" strike="noStrike">
              <a:solidFill>
                <a:srgbClr val="3e587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e5b6f"/>
                </a:solidFill>
                <a:latin typeface="Corbel"/>
              </a:rPr>
              <a:t>&lt;date/time&gt;</a:t>
            </a:r>
            <a:endParaRPr b="0" lang="en-US" sz="1100" spc="-1" strike="noStrike">
              <a:solidFill>
                <a:srgbClr val="000000"/>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e5b6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09F1-2B97-4A38-8919-1C28ACC7C086}" type="slidenum">
              <a:rPr b="0" lang="ru-RU" sz="1200" spc="-1" strike="noStrike">
                <a:solidFill>
                  <a:srgbClr val="4e5b6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Заголовок 1" descr=""/>
          <p:cNvPicPr/>
          <p:nvPr/>
        </p:nvPicPr>
        <p:blipFill>
          <a:blip r:embed="rId1"/>
          <a:stretch/>
        </p:blipFill>
        <p:spPr>
          <a:xfrm>
            <a:off x="676440" y="1590840"/>
            <a:ext cx="7997760" cy="2334960"/>
          </a:xfrm>
          <a:prstGeom prst="rect">
            <a:avLst/>
          </a:prstGeom>
          <a:ln w="0">
            <a:noFill/>
          </a:ln>
        </p:spPr>
      </p:pic>
      <p:sp>
        <p:nvSpPr>
          <p:cNvPr id="369" name="PlaceHolder 1"/>
          <p:cNvSpPr>
            <a:spLocks noGrp="1"/>
          </p:cNvSpPr>
          <p:nvPr>
            <p:ph type="subTitle"/>
          </p:nvPr>
        </p:nvSpPr>
        <p:spPr>
          <a:xfrm>
            <a:off x="1771560" y="5754600"/>
            <a:ext cx="6858000" cy="533520"/>
          </a:xfrm>
          <a:prstGeom prst="rect">
            <a:avLst/>
          </a:prstGeom>
          <a:noFill/>
          <a:ln w="0">
            <a:noFill/>
          </a:ln>
        </p:spPr>
        <p:txBody>
          <a:bodyPr lIns="100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Basheeva Viktoria</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15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 </a:t>
            </a:r>
            <a:r>
              <a:rPr b="0" lang="en-US" sz="4000" spc="-1" strike="noStrike">
                <a:solidFill>
                  <a:srgbClr val="3e587f"/>
                </a:solidFill>
                <a:latin typeface="Consolas"/>
              </a:rPr>
              <a:t>Dealers’ network</a:t>
            </a:r>
            <a:r>
              <a:rPr b="0" lang="ru-RU" sz="4000" spc="-1" strike="noStrike">
                <a:solidFill>
                  <a:srgbClr val="3e587f"/>
                </a:solidFill>
                <a:latin typeface="Consolas"/>
              </a:rPr>
              <a:t> (</a:t>
            </a:r>
            <a:r>
              <a:rPr b="0" lang="en-US" sz="4000" spc="-1" strike="noStrike">
                <a:solidFill>
                  <a:srgbClr val="3e587f"/>
                </a:solidFill>
                <a:latin typeface="Consolas"/>
              </a:rPr>
              <a:t>Case</a:t>
            </a:r>
            <a:r>
              <a:rPr b="0" lang="ru-RU" sz="4000" spc="-1" strike="noStrike">
                <a:solidFill>
                  <a:srgbClr val="3e587f"/>
                </a:solidFill>
                <a:latin typeface="Consolas"/>
              </a:rPr>
              <a:t>)</a:t>
            </a:r>
            <a:endParaRPr b="0" lang="en-US" sz="4000" spc="-1" strike="noStrike">
              <a:solidFill>
                <a:srgbClr val="3e587f"/>
              </a:solidFill>
              <a:latin typeface="Consolas"/>
            </a:endParaRPr>
          </a:p>
        </p:txBody>
      </p:sp>
      <p:sp>
        <p:nvSpPr>
          <p:cNvPr id="390" name=""/>
          <p:cNvSpPr txBox="1"/>
          <p:nvPr/>
        </p:nvSpPr>
        <p:spPr>
          <a:xfrm>
            <a:off x="755280" y="1125360"/>
            <a:ext cx="7993080" cy="5328000"/>
          </a:xfrm>
          <a:prstGeom prst="rect">
            <a:avLst/>
          </a:prstGeom>
          <a:noFill/>
          <a:ln w="0">
            <a:noFill/>
          </a:ln>
        </p:spPr>
        <p:txBody>
          <a:bodyPr anchor="t">
            <a:normAutofit fontScale="99000"/>
          </a:bodyPr>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The specialists of regional strategic development considered about expansion in regions.</a:t>
            </a:r>
            <a:endParaRPr b="0" lang="en-US" sz="1700" spc="-1" strike="noStrike">
              <a:solidFill>
                <a:srgbClr val="000000"/>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Under the fact that Jamilco has the exclusive rights of distribution luxury and premium clothes, the company chooses the exclusive distribution strategy. This strategy is characterized that the organization selects the limited number of dealers in each region for selling goods. Such policy gives an opportunity to control their brand image and to set its own prices for products.  </a:t>
            </a:r>
            <a:endParaRPr b="0" lang="en-US" sz="1700" spc="-1" strike="noStrike">
              <a:solidFill>
                <a:srgbClr val="000000"/>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During first 3 month of sales in store, the results were outstanding. From month to month, the STR was increasing to 15-20%.  All in all, the top-management of the company had the positive opinion about this brand since its time of launching. Soon it was decided to expand in regions, which has a huge potential. As usual, dealers send their offers to set up partnerships of selling products on their territory. But our development managers before discussion and considering about who are the best dealers clearly analyze not only the profiles of dealers, but also the regions, where they operate.</a:t>
            </a:r>
            <a:endParaRPr b="0" lang="en-US" sz="1700" spc="-1" strike="noStrike">
              <a:solidFill>
                <a:srgbClr val="000000"/>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rPr>
              <a:t>Thanks to the qualitative work of our strategic department, during one year of Marc O’Polo operation in Russia, the total number of dealers is 14 in different regions. The company doesn’t plan to stop on achieved results.</a:t>
            </a:r>
            <a:endParaRPr b="0" lang="en-US" sz="1700" spc="-1" strike="noStrike">
              <a:solidFill>
                <a:srgbClr val="000000"/>
              </a:solidFill>
              <a:latin typeface="Corbel"/>
            </a:endParaRPr>
          </a:p>
          <a:p>
            <a:pPr marL="406800" indent="-339120" algn="just">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06800" indent="-339120" algn="just">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Questions</a:t>
            </a:r>
            <a:endParaRPr b="0" lang="en-US" sz="4000" spc="-1" strike="noStrike">
              <a:solidFill>
                <a:srgbClr val="3e587f"/>
              </a:solidFill>
              <a:latin typeface="Consolas"/>
            </a:endParaRPr>
          </a:p>
        </p:txBody>
      </p:sp>
      <p:sp>
        <p:nvSpPr>
          <p:cNvPr id="392" name=""/>
          <p:cNvSpPr txBox="1"/>
          <p:nvPr/>
        </p:nvSpPr>
        <p:spPr>
          <a:xfrm>
            <a:off x="684360" y="1484280"/>
            <a:ext cx="7772400" cy="457200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hat criteria does Jamilco choose for making a partnership with dealer?</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o you think Jamilco stimulate their dealers? If yes, what methods does the company apply?</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2602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1</a:t>
            </a:r>
            <a:r>
              <a:rPr b="0" lang="en-US" sz="4000" spc="-1" strike="noStrike" baseline="30000">
                <a:solidFill>
                  <a:srgbClr val="3e587f"/>
                </a:solidFill>
                <a:latin typeface="Consolas"/>
              </a:rPr>
              <a:t>st</a:t>
            </a:r>
            <a:r>
              <a:rPr b="0" lang="en-US" sz="4000" spc="-1" strike="noStrike">
                <a:solidFill>
                  <a:srgbClr val="3e587f"/>
                </a:solidFill>
                <a:latin typeface="Consolas"/>
              </a:rPr>
              <a:t> Answer</a:t>
            </a:r>
            <a:endParaRPr b="0" lang="en-US" sz="4000" spc="-1" strike="noStrike">
              <a:solidFill>
                <a:srgbClr val="3e587f"/>
              </a:solidFill>
              <a:latin typeface="Consolas"/>
            </a:endParaRPr>
          </a:p>
        </p:txBody>
      </p:sp>
      <p:sp>
        <p:nvSpPr>
          <p:cNvPr id="394" name=""/>
          <p:cNvSpPr txBox="1"/>
          <p:nvPr/>
        </p:nvSpPr>
        <p:spPr>
          <a:xfrm>
            <a:off x="539640" y="126828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ducting an analysis(a table of each dealer with all necessary characteristics)</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criteria for comparison are the following:</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tact</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ssortment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ormat of store: monobrand /multibrand. If it’s a multibrand store, evaluate the range of competitive brands in dealer’s portfolio</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of merchandising;</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location;</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vertising activity (TV, magazines)</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95" name="Rectangle 1"/>
          <p:cNvSpPr/>
          <p:nvPr/>
        </p:nvSpPr>
        <p:spPr>
          <a:xfrm>
            <a:off x="611280" y="5239440"/>
            <a:ext cx="7632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alibri"/>
              </a:rPr>
              <a:t>It helps to determine the number of potential dealers; analyze the competitive environment; set up the management plan for construction and future maintenanc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719280" y="620640"/>
            <a:ext cx="842472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most important criteria for choosing an appropriate dealer are:</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Financial aspect.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perience in doing business in fashion retail.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sales figures</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number of employees.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reputation of dealer.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rket coverage: in geographical terms  and across industries</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eriodicity of receiving orders.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organization of stocks and warehouses. </a:t>
            </a:r>
            <a:endParaRPr b="0" lang="en-US" sz="2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managemen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2</a:t>
            </a:r>
            <a:r>
              <a:rPr b="0" lang="en-US" sz="4000" spc="-1" strike="noStrike" baseline="30000">
                <a:solidFill>
                  <a:srgbClr val="3e587f"/>
                </a:solidFill>
                <a:latin typeface="Consolas"/>
              </a:rPr>
              <a:t>nd </a:t>
            </a:r>
            <a:r>
              <a:rPr b="0" lang="en-US" sz="4000" spc="-1" strike="noStrike">
                <a:solidFill>
                  <a:srgbClr val="3e587f"/>
                </a:solidFill>
                <a:latin typeface="Consolas"/>
              </a:rPr>
              <a:t>Answer</a:t>
            </a:r>
            <a:endParaRPr b="0" lang="en-US" sz="4000" spc="-1" strike="noStrike">
              <a:solidFill>
                <a:srgbClr val="3e587f"/>
              </a:solidFill>
              <a:latin typeface="Consolas"/>
            </a:endParaRPr>
          </a:p>
        </p:txBody>
      </p:sp>
      <p:sp>
        <p:nvSpPr>
          <p:cNvPr id="398" name=""/>
          <p:cNvSpPr txBox="1"/>
          <p:nvPr/>
        </p:nvSpPr>
        <p:spPr>
          <a:xfrm>
            <a:off x="610920" y="1268280"/>
            <a:ext cx="8281800" cy="54007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Jamilco appreciates the partnerships with dealers.</a:t>
            </a:r>
            <a:endParaRPr b="0" lang="en-US" sz="21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For holding them, the next steps are used:</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Providing free samples of products.</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Free demonstration and scanning (exploitation and use) of the product.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Offers benefits and discounts.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Advertisements money back guarantee.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Participating in professional exhibitions.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lding special promo action for dealers twice a year.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lding competition once a year among dealers. For example, from year to year the name of the competition is different.(For example, “The highest turnover”, “The best results in market penetration in the region”, “The largest volume of purchases and the percentage of sale). </a:t>
            </a:r>
            <a:endParaRPr b="0" lang="en-US" sz="21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rbel"/>
              </a:rPr>
              <a:t>The dealer can exchange the goods at the rate of 10% due to poor implementation</a:t>
            </a:r>
            <a:endParaRPr b="0" lang="en-US" sz="21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 </a:t>
            </a: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39640" y="115560"/>
            <a:ext cx="8353440" cy="64818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Jamilco is aiming that dealers become loyal to them.</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Jamilco is trying to build the relationships based on the synthesis of 4 important factors.</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ational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rrelation of the price to the quality of good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readth and depth of the assortment</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mutual benefit as for Jamilco, so for the dealers in the rate of high profit margin</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aler’s reward for an implementation of the plan.</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Functional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conditions payment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periods of delivering the goods(Effective distribution system)</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Organization of warranty service</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dditional trainings for the dealers</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Branding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eputation(Statu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rand recognition portfolio</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eliability of the company</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Good team work</a:t>
            </a: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lang="en-US" sz="1500" spc="-1" strike="noStrike">
                <a:solidFill>
                  <a:srgbClr val="000000"/>
                </a:solidFill>
                <a:latin typeface="Corbel"/>
              </a:rPr>
              <a:t>	</a:t>
            </a:r>
            <a:r>
              <a:rPr b="0" lang="en-US" sz="1500" spc="-1" strike="noStrike">
                <a:solidFill>
                  <a:srgbClr val="000000"/>
                </a:solidFill>
                <a:latin typeface="Corbel"/>
              </a:rPr>
              <a:t>	</a:t>
            </a:r>
            <a:r>
              <a:rPr b="0" lang="en-US" sz="1500" spc="-1" strike="noStrike">
                <a:solidFill>
                  <a:srgbClr val="000000"/>
                </a:solidFill>
                <a:latin typeface="Corbel"/>
              </a:rPr>
              <a:t>	</a:t>
            </a:r>
            <a:r>
              <a:rPr b="0" lang="en-US" sz="1600" spc="-1" strike="noStrike">
                <a:solidFill>
                  <a:srgbClr val="000000"/>
                </a:solidFill>
                <a:latin typeface="Corbel"/>
              </a:rPr>
              <a:t>Personal communication factors</a:t>
            </a:r>
            <a:endParaRPr b="0" lang="en-US" sz="16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Organization of  meetings with dealers</a:t>
            </a:r>
            <a:endParaRPr b="0" lang="en-US" sz="15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Maintenance the contact by phone and e-mail</a:t>
            </a:r>
            <a:endParaRPr b="0" lang="en-US" sz="1500" spc="-1" strike="noStrike">
              <a:solidFill>
                <a:srgbClr val="000000"/>
              </a:solidFill>
              <a:latin typeface="Corbel"/>
            </a:endParaRPr>
          </a:p>
          <a:p>
            <a:pPr marL="411120" indent="-34272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Holding an exhibition once a year</a:t>
            </a:r>
            <a:endParaRPr b="0" lang="en-US" sz="15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11280" y="333360"/>
            <a:ext cx="7772400" cy="457200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channel of distribution  - a system that helps bringing products from manufacturer to final customer.</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3 main distribution channel systems</a:t>
            </a:r>
            <a:endParaRPr b="0" lang="en-US" sz="3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71" name="Рисунок 3" descr=""/>
          <p:cNvPicPr/>
          <p:nvPr/>
        </p:nvPicPr>
        <p:blipFill>
          <a:blip r:embed="rId1"/>
          <a:stretch/>
        </p:blipFill>
        <p:spPr>
          <a:xfrm>
            <a:off x="2268360" y="2637000"/>
            <a:ext cx="4894560" cy="33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539640" y="1052280"/>
            <a:ext cx="7772400" cy="5113080"/>
          </a:xfrm>
          <a:prstGeom prst="rect">
            <a:avLst/>
          </a:prstGeom>
          <a:noFill/>
          <a:ln w="0">
            <a:noFill/>
          </a:ln>
        </p:spPr>
        <p:txBody>
          <a:bodyPr anchor="t">
            <a:normAutofit fontScale="94000"/>
          </a:bodyPr>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rPr>
              <a:t>Multibrand, multichannel and multisegment company </a:t>
            </a:r>
            <a:endParaRPr b="0" lang="en-US" sz="2000" spc="-1" strike="noStrike">
              <a:solidFill>
                <a:srgbClr val="000000"/>
              </a:solidFill>
              <a:latin typeface="Corbel"/>
            </a:endParaRPr>
          </a:p>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rPr>
              <a:t>Field: fashion apparel, footwear, accessories and jewelery in the Russian market </a:t>
            </a:r>
            <a:endParaRPr b="0" lang="en-US" sz="2000" spc="-1" strike="noStrike">
              <a:solidFill>
                <a:srgbClr val="000000"/>
              </a:solidFill>
              <a:latin typeface="Corbel"/>
            </a:endParaRPr>
          </a:p>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rPr>
              <a:t>Format: own retail and wholesale</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ctive on the Russian retail market for luxury and casual wear segment since 1993</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ll brands represented in Russia by JamilCo are well known international brands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JamilCo Group is among 200 largest privately owned Russian corporations.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company consists of two legal entities, Jamilco and LVB LLC.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Own retail network of 155 monobrand stores in Moscow, St. Petersburg, Rostov-on-Don and Yekaterinburg </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lanning further developing own retail network in different regions</a:t>
            </a:r>
            <a:endParaRPr b="0" lang="en-US" sz="20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lnSpc>
                <a:spcPct val="10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6280" indent="-32184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73" name="PlaceHolder 1"/>
          <p:cNvSpPr>
            <a:spLocks noGrp="1"/>
          </p:cNvSpPr>
          <p:nvPr>
            <p:ph type="title"/>
          </p:nvPr>
        </p:nvSpPr>
        <p:spPr>
          <a:xfrm>
            <a:off x="755640" y="188640"/>
            <a:ext cx="783432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e587f"/>
                </a:solidFill>
                <a:latin typeface="Consolas"/>
              </a:rPr>
              <a:t>JamilCo Group Info </a:t>
            </a:r>
            <a:endParaRPr b="0" lang="en-US" sz="4000" spc="-1" strike="noStrike">
              <a:solidFill>
                <a:srgbClr val="3e587f"/>
              </a:solidFill>
              <a:latin typeface="Consola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692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3e587f"/>
                </a:solidFill>
                <a:latin typeface="Consolas"/>
              </a:rPr>
              <a:t>JamilCo Group </a:t>
            </a:r>
            <a:r>
              <a:rPr b="0" lang="en-GB" sz="2000" spc="-1" strike="noStrike">
                <a:solidFill>
                  <a:srgbClr val="3e587f"/>
                </a:solidFill>
                <a:latin typeface="Consolas"/>
              </a:rPr>
              <a:t>Distribution Network </a:t>
            </a:r>
            <a:endParaRPr b="0" lang="en-US" sz="2000" spc="-1" strike="noStrike">
              <a:solidFill>
                <a:srgbClr val="3e587f"/>
              </a:solidFill>
              <a:latin typeface="Consolas"/>
            </a:endParaRPr>
          </a:p>
        </p:txBody>
      </p:sp>
      <p:pic>
        <p:nvPicPr>
          <p:cNvPr id="375" name="Picture 2" descr=""/>
          <p:cNvPicPr/>
          <p:nvPr/>
        </p:nvPicPr>
        <p:blipFill>
          <a:blip r:embed="rId1"/>
          <a:stretch/>
        </p:blipFill>
        <p:spPr>
          <a:xfrm>
            <a:off x="539640" y="1125360"/>
            <a:ext cx="7772400" cy="4073760"/>
          </a:xfrm>
          <a:prstGeom prst="rect">
            <a:avLst/>
          </a:prstGeom>
          <a:ln w="0">
            <a:noFill/>
          </a:ln>
        </p:spPr>
      </p:pic>
      <p:sp>
        <p:nvSpPr>
          <p:cNvPr id="376" name="Прямоугольник 4"/>
          <p:cNvSpPr/>
          <p:nvPr/>
        </p:nvSpPr>
        <p:spPr>
          <a:xfrm>
            <a:off x="755640" y="5257800"/>
            <a:ext cx="8064360" cy="15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VB (Jamilco Group) was awarded the “Best Distributor in Russia 2012” for Fashion Apparel, Footwear and Accessories. This is the most prestigious award in the fashion business segment nominated by the Pro Fashion Group (Russ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e587f"/>
              </a:solidFill>
              <a:latin typeface="Consolas"/>
            </a:endParaRPr>
          </a:p>
        </p:txBody>
      </p:sp>
      <p:pic>
        <p:nvPicPr>
          <p:cNvPr id="378" name="Picture 2" descr=""/>
          <p:cNvPicPr/>
          <p:nvPr/>
        </p:nvPicPr>
        <p:blipFill>
          <a:blip r:embed="rId1"/>
          <a:srcRect l="20868" t="20735" r="21646" b="11801"/>
          <a:stretch/>
        </p:blipFill>
        <p:spPr>
          <a:xfrm>
            <a:off x="324000" y="476280"/>
            <a:ext cx="8820000" cy="616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39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Marc O’Polo</a:t>
            </a:r>
            <a:endParaRPr b="0" lang="en-US" sz="4000" spc="-1" strike="noStrike">
              <a:solidFill>
                <a:srgbClr val="3e587f"/>
              </a:solidFill>
              <a:latin typeface="Consolas"/>
            </a:endParaRPr>
          </a:p>
        </p:txBody>
      </p:sp>
      <p:sp>
        <p:nvSpPr>
          <p:cNvPr id="380" name=""/>
          <p:cNvSpPr txBox="1"/>
          <p:nvPr/>
        </p:nvSpPr>
        <p:spPr>
          <a:xfrm>
            <a:off x="539280" y="1125000"/>
            <a:ext cx="8280360" cy="5256360"/>
          </a:xfrm>
          <a:prstGeom prst="rect">
            <a:avLst/>
          </a:prstGeom>
          <a:noFill/>
          <a:ln w="0">
            <a:noFill/>
          </a:ln>
        </p:spPr>
        <p:txBody>
          <a:bodyPr anchor="t">
            <a:normAutofit fontScale="99000"/>
          </a:bodyPr>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ata and place: 1967 , Stockholm</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nders : Goethe Husom, Rolf Lind and American Jerry O’ Sheet</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ne of the leading brands in the creation of everyday clothes from natural materials. </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llections: men, women and children</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ain brand categories: sweaters, shirts, jackets, knitwear, dresses, pants chinos</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35 European countries, 235 concept stores and over 1,000 multibrand stores format</a:t>
            </a:r>
            <a:endParaRPr b="0" lang="en-US" sz="3000" spc="-1" strike="noStrike">
              <a:solidFill>
                <a:srgbClr val="000000"/>
              </a:solidFill>
              <a:latin typeface="Corbel"/>
            </a:endParaRPr>
          </a:p>
          <a:p>
            <a:pPr marL="406800" indent="-3391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1280" y="259920"/>
            <a:ext cx="7772400" cy="604836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ajor markets : Germany, Austria, Switzerland, Benelux, Scandinavia</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eadquarters :Southern Germany, Stephanskirchen. </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total number of own stores – 92, the affiliate stores – 143, point of sales including multibrand- 2364.</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82" name="Содержимое 3" descr=""/>
          <p:cNvPicPr/>
          <p:nvPr/>
        </p:nvPicPr>
        <p:blipFill>
          <a:blip r:embed="rId1"/>
          <a:srcRect l="37342" t="28223" r="16347" b="25886"/>
          <a:stretch/>
        </p:blipFill>
        <p:spPr>
          <a:xfrm>
            <a:off x="755640" y="3789360"/>
            <a:ext cx="4896000" cy="2952720"/>
          </a:xfrm>
          <a:prstGeom prst="rect">
            <a:avLst/>
          </a:prstGeom>
          <a:ln w="0">
            <a:noFill/>
          </a:ln>
        </p:spPr>
      </p:pic>
      <p:sp>
        <p:nvSpPr>
          <p:cNvPr id="383" name="Прямоугольник 5"/>
          <p:cNvSpPr/>
          <p:nvPr/>
        </p:nvSpPr>
        <p:spPr>
          <a:xfrm>
            <a:off x="5796000" y="4221000"/>
            <a:ext cx="3348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libri"/>
              </a:rPr>
              <a:t>The main competitors of Marc O’ Polo are Gant and Tommy Hilfi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9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87f"/>
                </a:solidFill>
                <a:latin typeface="Consolas"/>
              </a:rPr>
              <a:t>Marc O’ Polo in Russia</a:t>
            </a:r>
            <a:br>
              <a:rPr sz="4000"/>
            </a:br>
            <a:endParaRPr b="0" lang="en-US" sz="4000" spc="-1" strike="noStrike">
              <a:solidFill>
                <a:srgbClr val="3e587f"/>
              </a:solidFill>
              <a:latin typeface="Consolas"/>
            </a:endParaRPr>
          </a:p>
        </p:txBody>
      </p:sp>
      <p:sp>
        <p:nvSpPr>
          <p:cNvPr id="385" name=""/>
          <p:cNvSpPr txBox="1"/>
          <p:nvPr/>
        </p:nvSpPr>
        <p:spPr>
          <a:xfrm>
            <a:off x="539640" y="1052640"/>
            <a:ext cx="7772400" cy="4572000"/>
          </a:xfrm>
          <a:prstGeom prst="rect">
            <a:avLst/>
          </a:prstGeom>
          <a:noFill/>
          <a:ln w="0">
            <a:noFill/>
          </a:ln>
        </p:spPr>
        <p:txBody>
          <a:bodyPr anchor="t">
            <a:normAutofit/>
          </a:bodyPr>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VB is responsible for development and expansion Marc O’ Polo on the Russian market</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ptember 2012 – 1</a:t>
            </a:r>
            <a:r>
              <a:rPr b="0" lang="en-US" sz="3000" spc="-1" strike="noStrike" baseline="30000">
                <a:solidFill>
                  <a:srgbClr val="000000"/>
                </a:solidFill>
                <a:latin typeface="Corbel"/>
              </a:rPr>
              <a:t>st</a:t>
            </a:r>
            <a:r>
              <a:rPr b="0" lang="en-US" sz="3000" spc="-1" strike="noStrike">
                <a:solidFill>
                  <a:srgbClr val="000000"/>
                </a:solidFill>
                <a:latin typeface="Corbel"/>
              </a:rPr>
              <a:t> store in Atrium</a:t>
            </a:r>
            <a:endParaRPr b="0" lang="en-US" sz="3000" spc="-1" strike="noStrike">
              <a:solidFill>
                <a:srgbClr val="000000"/>
              </a:solidFill>
              <a:latin typeface="Corbel"/>
            </a:endParaRPr>
          </a:p>
          <a:p>
            <a:pPr marL="411120" indent="-342720">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86" name="Рисунок 3" descr=""/>
          <p:cNvPicPr/>
          <p:nvPr/>
        </p:nvPicPr>
        <p:blipFill>
          <a:blip r:embed="rId1"/>
          <a:srcRect l="38783" t="37141" r="17628" b="25030"/>
          <a:stretch/>
        </p:blipFill>
        <p:spPr>
          <a:xfrm>
            <a:off x="1619280" y="3141720"/>
            <a:ext cx="5657760" cy="2759040"/>
          </a:xfrm>
          <a:prstGeom prst="rect">
            <a:avLst/>
          </a:prstGeom>
          <a:ln w="0">
            <a:noFill/>
          </a:ln>
        </p:spPr>
      </p:pic>
      <p:sp>
        <p:nvSpPr>
          <p:cNvPr id="387" name="Rectangle 1"/>
          <p:cNvSpPr/>
          <p:nvPr/>
        </p:nvSpPr>
        <p:spPr>
          <a:xfrm>
            <a:off x="1755360" y="6183360"/>
            <a:ext cx="628128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At the beginning of 2013 one own retail store is opened in Moscow, the total number of dealers -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539280" y="404280"/>
            <a:ext cx="8280360" cy="5688360"/>
          </a:xfrm>
          <a:prstGeom prst="rect">
            <a:avLst/>
          </a:prstGeom>
          <a:noFill/>
          <a:ln w="0">
            <a:noFill/>
          </a:ln>
        </p:spPr>
        <p:txBody>
          <a:bodyPr anchor="t">
            <a:normAutofit fontScale="97000"/>
          </a:bodyPr>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LVB is responsible for the strategic brand development in Russia:</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Providing assortment of product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Providing service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Warehousing</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Inventory</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ransportation</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retail prices on clothes are the following:</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Sweaters - 4988 - 10 965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Dresses - 5590 - 11 567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Shirts - 3698 - 7525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Pants - 4988 - 9890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Coat - 10 965 - 23 650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Jackets - 9288 - 23 951 rubles</a:t>
            </a:r>
            <a:endParaRPr b="0" lang="en-US" sz="1400" spc="-1" strike="noStrike">
              <a:solidFill>
                <a:srgbClr val="000000"/>
              </a:solidFill>
              <a:latin typeface="Corbel"/>
            </a:endParaRPr>
          </a:p>
          <a:p>
            <a:pPr marL="398520" indent="-332280">
              <a:lnSpc>
                <a:spcPct val="80000"/>
              </a:lnSpc>
              <a:spcBef>
                <a:spcPts val="700"/>
              </a:spcBef>
              <a:buClr>
                <a:srgbClr val="4e5b6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Jeans - 4988 - 8858 rubles</a:t>
            </a: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main competitive advantages of brand</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width of the range of the collection - represented all categories of clothing</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Update frequency range (four collections per year)</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Using natural material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Color and seasonal themes collections</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Brand recognition in the Russian market</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Value for money</a:t>
            </a:r>
            <a:endParaRPr b="0" lang="en-US" sz="1400" spc="-1" strike="noStrike">
              <a:solidFill>
                <a:srgbClr val="000000"/>
              </a:solidFill>
              <a:latin typeface="Corbel"/>
            </a:endParaRPr>
          </a:p>
          <a:p>
            <a:pPr lvl="1" marL="717480" indent="-277200">
              <a:lnSpc>
                <a:spcPct val="80000"/>
              </a:lnSpc>
              <a:spcBef>
                <a:spcPts val="3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rPr>
              <a:t>The unique design of concept stores( format “flat”, “library”)</a:t>
            </a:r>
            <a:endParaRPr b="0" lang="en-US" sz="1400" spc="-1" strike="noStrike">
              <a:solidFill>
                <a:srgbClr val="000000"/>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0:47:45Z</dcterms:created>
  <dc:creator>basheeva</dc:creator>
  <dc:description/>
  <dc:language>en-US</dc:language>
  <cp:lastModifiedBy>виктория</cp:lastModifiedBy>
  <dcterms:modified xsi:type="dcterms:W3CDTF">2013-12-19T19:11:08Z</dcterms:modified>
  <cp:revision>10</cp:revision>
  <dc:subject/>
  <dc:title>The distribution network. The choice of right distribution strategy</dc:title>
</cp:coreProperties>
</file>