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250-F70E-40BB-943F-7553E512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1D4-4C8D-4C0D-8649-0207D424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3D2-3339-422C-AA0D-FC7F7926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300-DF2B-4116-84BD-53754F75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4BC-6426-46D7-9DC7-7C049130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1A2-41A3-4E87-ACC6-EA73EF3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28C-A69A-4388-A9A5-B75DDD8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E41-CBC0-4BE6-ABD2-B2B682B1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2A0-1F22-4D23-8B02-554DDC63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CAD-B430-4880-9012-323F3953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312-7EF7-4439-A920-EC996CD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69F-0792-42A8-98A2-F529CBC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1EBB-34DF-4CA9-845B-BC4C57FB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creation in terms of supply chain manag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ch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818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relation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70440" y="2059200"/>
            <a:ext cx="4745160" cy="3760560"/>
            <a:chOff x="370440" y="2059200"/>
            <a:chExt cx="4745160" cy="3760560"/>
          </a:xfrm>
        </p:grpSpPr>
        <p:sp>
          <p:nvSpPr>
            <p:cNvPr id="46" name="_s8212"/>
            <p:cNvSpPr/>
            <p:nvPr/>
          </p:nvSpPr>
          <p:spPr>
            <a:xfrm flipV="1">
              <a:off x="2149920" y="2059200"/>
              <a:ext cx="1186200" cy="939600"/>
            </a:xfrm>
            <a:custGeom>
              <a:avLst/>
              <a:gdLst>
                <a:gd name="textAreaLeft" fmla="*/ 425520 w 1186200"/>
                <a:gd name="textAreaRight" fmla="*/ 760680 w 1186200"/>
                <a:gd name="textAreaTop" fmla="*/ 336960 h 939600"/>
                <a:gd name="textAreaBottom" fmla="*/ 60264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ation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8216"/>
            <p:cNvSpPr/>
            <p:nvPr/>
          </p:nvSpPr>
          <p:spPr>
            <a:xfrm flipV="1">
              <a:off x="1556640" y="2998080"/>
              <a:ext cx="2372400" cy="941400"/>
            </a:xfrm>
            <a:custGeom>
              <a:avLst/>
              <a:gdLst>
                <a:gd name="textAreaLeft" fmla="*/ 521640 w 2372400"/>
                <a:gd name="textAreaRight" fmla="*/ 1850760 w 2372400"/>
                <a:gd name="textAreaTop" fmla="*/ 207000 h 941400"/>
                <a:gd name="textAreaBottom" fmla="*/ 73440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tnership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s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 alli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8213"/>
            <p:cNvSpPr/>
            <p:nvPr/>
          </p:nvSpPr>
          <p:spPr>
            <a:xfrm flipV="1">
              <a:off x="963720" y="3939480"/>
              <a:ext cx="3558600" cy="939960"/>
            </a:xfrm>
            <a:custGeom>
              <a:avLst/>
              <a:gdLst>
                <a:gd name="textAreaLeft" fmla="*/ 617760 w 3558600"/>
                <a:gd name="textAreaRight" fmla="*/ 2940840 w 3558600"/>
                <a:gd name="textAreaTop" fmla="*/ 163080 h 939960"/>
                <a:gd name="textAreaBottom" fmla="*/ 77688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e and lo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m relationsh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8214"/>
            <p:cNvSpPr/>
            <p:nvPr/>
          </p:nvSpPr>
          <p:spPr>
            <a:xfrm flipV="1">
              <a:off x="370440" y="4879440"/>
              <a:ext cx="4745160" cy="939960"/>
            </a:xfrm>
            <a:custGeom>
              <a:avLst/>
              <a:gdLst>
                <a:gd name="textAreaLeft" fmla="*/ 713880 w 4745160"/>
                <a:gd name="textAreaRight" fmla="*/ 4031280 w 4745160"/>
                <a:gd name="textAreaTop" fmla="*/ 141480 h 939960"/>
                <a:gd name="textAreaBottom" fmla="*/ 79848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ngle and repeater transac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1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e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4267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e strategy with cooperation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495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ve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2362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du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286000"/>
            <a:ext cx="13716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362320"/>
            <a:ext cx="13716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419720"/>
            <a:ext cx="13716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733920"/>
            <a:ext cx="13716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7242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6386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49528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1814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362320" y="441936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952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419720"/>
            <a:ext cx="13716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40384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048120"/>
            <a:ext cx="38124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45720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38862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3200400"/>
            <a:ext cx="3812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200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1880" y="3657600"/>
            <a:ext cx="3812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6933960" y="41907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43800" y="43430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040" y="3505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772400" y="33523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92468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4572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Kraljic purchasing portfolio mode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6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 C criteria for suppliers appraisal  of R. Kar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resources and financi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iers’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evel of relationships American Auto tried to reach through building the center of suppliers’ develop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ypes of relationships in your opinion the automobile company should develop with suppliers of different it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ere the main mistakes of adoption the lean production system in the company? How company could reach this target without lo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riteria should match suppliers to be strategic partner in automobile industr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ful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yota and its 12 th principle about suppl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ed development with suppliers from the 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ing the core compe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gmentation of suppliers: giving  categories according to criteria and previous experience with curtain partner. Example of Trim master, producer the seats for automobi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support and developing suppliers, complete exploration the problems with solution instead of penalties – creation of Toyota supplier support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suken – voluntary study groups, conferences, seminar, ev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partnering: chains, strategic alliance, inte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8:52:13Z</dcterms:created>
  <dc:creator>Пользователь</dc:creator>
  <dc:description/>
  <dc:language>en-US</dc:language>
  <cp:lastModifiedBy>Пользователь</cp:lastModifiedBy>
  <dcterms:modified xsi:type="dcterms:W3CDTF">2013-12-17T14:20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