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91A-26C5-4566-81FE-6E3B2D1D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BFB-D026-4F0C-9F8E-4880A9D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646-3413-46F4-83FE-91415F99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A8A-479D-42BF-AEB4-757B39E2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F0EB6-918A-4882-A507-0C0ED122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8C6C2-5CDC-43B9-8D69-B13830C0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E9ED-3F2E-4833-8DFA-EE25B8A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CB25E-7D0C-43D6-9B19-5DBE2BE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1BE09-BEB3-46D7-A7B1-1C79D89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6911-8912-4197-8302-EC7173A3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5244-3F7E-4B8D-9C02-EDBFD96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BA8-2009-47F6-AAFE-28928A6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D1553-B7E1-49AF-8D15-AD52AAC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FF3D4-6C2A-4304-A407-6F9225F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9BCFE-C4D3-42B5-92A6-FE0836AF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2E02-5410-48CF-B54A-744D0F0C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3FD11-80C5-47EF-8DA2-58EF5CEF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310-FDC1-4CCB-878B-0B2F569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7C8-2180-48B3-831D-6806B16F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191-074D-4151-A2FA-AF2474C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630-A724-43EA-A190-6078AAC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E2C-5691-413F-B794-C9AA944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704-8FAD-47E5-8D0A-AA0B4E1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FE3-FDCC-4A01-B764-969CD9CF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7C6-E690-42B2-B99D-954033213E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1457-3C23-4568-B9ED-E4178DC12E3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olfgang@imv.au.d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The Governance Dimension of the Internet of Thing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ational Research Univerity Higher School of Economi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Faculty of Business Informmati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partment of Innovations and Business in 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osc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cember 17 – 19, 20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ahoma"/>
              </a:rPr>
              <a:t>Prof. Wolfgang Kleinwächter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ahoma"/>
              </a:rPr>
              <a:t>University of Aarhus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 algn="ctr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9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olfgang@imv.au.dk</a:t>
            </a:r>
            <a:r>
              <a:rPr b="0" lang="de-DE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wolfgang@imv.au.d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 there an “Internet of Things”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444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is no accepted defin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T is misleading established langu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 is a “network of network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tworks are using “identifiers”, mainly names (Domain Names) and numbers (IP addresses) but also sensors and others, to identify the members of their networ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P addresses (and, if needed, relevant domain names) can be deployed to computers, any kind of devices and any kind of objects or sub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T is “just another network” (or many networks) which uses IP protocol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T can be described as a “Private Area Network (P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oT as “Private Area Networks (PAN) on top of the D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444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T is not an infrastructure in its own but uses (mainly) existing DNS infrastructure (on top of a TL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T is constituted by numerous “Private Area Networks” (PA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T has two numbering lay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Pv6 add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FID-T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T give objects the capability to “communicate” within a defined network as well as with other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ssive communication: An object, if asked, gives information about its “life” (tracebilit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tive Communication:  An object, programmed, instructs individuals or other objects to do thing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Governance of Internet Identifi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 need to govern Internet ident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Guarantee of uniqueness of identifi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Guarantee that each user can communicate with any other user anytime, anywhere (unique „legacy“ or „authoratative“ root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air bottom up developed allocation policies of critical resources (if needed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Guaranteeing security and stabil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DNS Governance (ICA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omain Names (ccTLDs, gTLDs, iDNS, IANA databas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ecurity, Stability and Resiliance (DNSSec, CERT, IANA contract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P Address Governance (RI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ecentralized (regional oriented) institutional framewo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Regional allocation policies, based on documented nee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Management of limited (IPv4) vs. „unlimited“ (IPv6) address resour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oT Governance (Need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a need to guarantee the uniqueness of identifiers which are linked to ob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ocation and management of IPv6 addresses (object addressing for routing purpos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ocation and management of RFID-TAGs (object numbering for management purpos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a need to guarantee the security and stability of the networks which link ob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a need to avoid monopolization of data control and to support competition among service provi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a need to avoid the misuse of data which emerge as a result of communication between individuals and objects („rendez-vous point“, privacy, right to silence the chip, right to be forgott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oT Governance (Not Need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no need to guarantee that each object can communicate with any other object or any other subject (limited communication needs/LCN), however, there should be „open standards“ to allow an enhancement of the LCN, if nee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no need to have a single „authoritative“ or „legacy“ root for the management of an object naming and numbering system (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ere is no need to establish new rights (existing legal data protection regulation needs just to be implemented accordingly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o need for a new ICANN in form of an „International  Corporation for the Internet of Things“ (ICIT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oT Poli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Gobal Policy Framework for Competition among IoT service providers to avoid monopoli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Global Policy Framework for IoT issues related to public policy (Privacy / Tracebility / Right to Silence the Chip / Right to be Forgotton / Security / Environmental Implications etc.)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Global multistakeholder platform for the exchange of experiences, best practices and, if needed, for coordination and collaboration among key players (IOT Dynamic Coalition of the IGF)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motion of research and fact finding studies (identification of public policy issues, economic studies, market development, privacy implications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oT Princi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nteroperabi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Standardization, inter-domain connections, flexibility, innovation, openes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Competi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Multiple roots, regionalization, transparency and accountabil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ecurity and tru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Encryption, key registration, verification, authenticiation, QoE, Q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ivac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Differentiation between sensitive and non-sensitive personal data, privacy enhancing technologies, privacy by design, privacy by default, „rendez-vous“-issu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ottom up multistakeholder approach in PD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Non-discrimination in allocation policies, inclusion, role of us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GF Dynamic Coalition of the Internet of Th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rted in IGF 2008 in Hyderab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assing away of Dr. Francis Mugu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-Establishment of the IGF IOT DC in IGF 2010 in Vilnj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usiness Meetings in connection with the Leipzig IOT workshop series under the EURO-NF since 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OT DC workshops at IGF 2011 (Nairobi), 2012 (Baku), 2013 (Bali) and 2014 (Istanbu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Next Workshop in Dresden (July 20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eparation of Workshop for IGF 2015 in Jao Passa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lanning for IOT Roadmap 20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oposals are welc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5:48:15Z</dcterms:created>
  <dc:creator>wolfgang</dc:creator>
  <dc:description/>
  <dc:language>en-US</dc:language>
  <cp:lastModifiedBy>wolfgang</cp:lastModifiedBy>
  <dcterms:modified xsi:type="dcterms:W3CDTF">2014-12-17T11:58:04Z</dcterms:modified>
  <cp:revision>290</cp:revision>
  <dc:subject/>
  <dc:title>Internet Goverannce:  Where we come from, where we are and where we should go</dc:title>
</cp:coreProperties>
</file>