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5BA2-0D76-4E14-9376-08FC7F209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C3E1-47ED-4CFA-92FD-447103F83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483B-13D8-46ED-8388-19AC25C58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5488-BA75-480C-BAC9-1D544FD4C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50C7-2401-423A-B022-1EE3EC852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6569-E1B9-4798-999E-E658776C4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09CB-D7AF-4466-91A5-D905AA8FA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F89A-7E5E-42D5-95FA-2CA72D829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5562-0264-40C1-8D76-D3D853F93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602B-727D-45D0-8428-515968C18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92C3-5D90-4F27-99A2-0D4C9A370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40F4-E4A6-46AA-9BD2-AB9850EB1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6A0A7-EA9F-46AB-A74D-976A9F53F3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Лекция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0.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5280" y="1989000"/>
            <a:ext cx="7808760" cy="41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Тестирование нестационарности временного ряда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01680" y="455760"/>
            <a:ext cx="8532720" cy="60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476360" y="3141720"/>
                <a:ext cx="64087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δ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нестационарность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1619280" y="4065480"/>
                <a:ext cx="5329080" cy="58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δ</m:t>
                    </m:r>
                    <m:r>
                      <m:t xml:space="preserve">&lt;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стационарность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4" name=""/>
          <p:cNvSpPr/>
          <p:nvPr/>
        </p:nvSpPr>
        <p:spPr>
          <a:xfrm>
            <a:off x="301680" y="0"/>
            <a:ext cx="8528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с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ики и Фуллера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F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683560" y="655308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ff"/>
                </a:solidFill>
                <a:latin typeface="Arial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55640" y="4797360"/>
            <a:ext cx="410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стовая статистика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4067280" y="4797360"/>
                <a:ext cx="2247840" cy="108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δ</m:t>
                        </m:r>
                      </m:num>
                      <m:den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e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r>
                          <m:t xml:space="preserve">δ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1619280" y="1052640"/>
                <a:ext cx="407664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δX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619280" y="1655640"/>
                <a:ext cx="502920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δX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1471680" y="2349360"/>
                <a:ext cx="605772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δX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01680" y="455760"/>
            <a:ext cx="8532720" cy="60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01680" y="0"/>
            <a:ext cx="8528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с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ики и Фулле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683560" y="655308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ff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55640" y="981000"/>
            <a:ext cx="7993080" cy="36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стовая статистика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спределение статистики Дики – Фуллер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tau statistics)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не совпадает с распределением статистики Стьюдента. Нужно использовать специальные таблицы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ля случаев (1), (2), (3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4564080" y="797040"/>
                <a:ext cx="2249640" cy="108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δ</m:t>
                        </m:r>
                      </m:num>
                      <m:den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e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(</m:t>
                        </m:r>
                        <m:r>
                          <m:t xml:space="preserve">δ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 flipH="1">
            <a:off x="3203640" y="4437000"/>
            <a:ext cx="768240" cy="268200"/>
          </a:xfrm>
          <a:custGeom>
            <a:avLst/>
            <a:gdLst/>
            <a:ahLst/>
            <a:rect l="l" t="t" r="r" b="b"/>
            <a:pathLst>
              <a:path w="484" h="169">
                <a:moveTo>
                  <a:pt x="1" y="0"/>
                </a:moveTo>
                <a:lnTo>
                  <a:pt x="0" y="168"/>
                </a:lnTo>
                <a:lnTo>
                  <a:pt x="484" y="169"/>
                </a:lnTo>
                <a:lnTo>
                  <a:pt x="295" y="139"/>
                </a:lnTo>
                <a:lnTo>
                  <a:pt x="243" y="127"/>
                </a:lnTo>
                <a:lnTo>
                  <a:pt x="165" y="98"/>
                </a:lnTo>
                <a:lnTo>
                  <a:pt x="94" y="61"/>
                </a:lnTo>
                <a:lnTo>
                  <a:pt x="1" y="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369120" y="4457880"/>
            <a:ext cx="768240" cy="268200"/>
          </a:xfrm>
          <a:custGeom>
            <a:avLst/>
            <a:gdLst/>
            <a:ahLst/>
            <a:rect l="l" t="t" r="r" b="b"/>
            <a:pathLst>
              <a:path w="484" h="169">
                <a:moveTo>
                  <a:pt x="1" y="0"/>
                </a:moveTo>
                <a:lnTo>
                  <a:pt x="0" y="168"/>
                </a:lnTo>
                <a:lnTo>
                  <a:pt x="484" y="169"/>
                </a:lnTo>
                <a:lnTo>
                  <a:pt x="295" y="139"/>
                </a:lnTo>
                <a:lnTo>
                  <a:pt x="243" y="127"/>
                </a:lnTo>
                <a:lnTo>
                  <a:pt x="165" y="98"/>
                </a:lnTo>
                <a:lnTo>
                  <a:pt x="94" y="61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1680" y="455760"/>
            <a:ext cx="8532720" cy="50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6080"/>
                <a:tab algn="l" pos="4849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46080"/>
                <a:tab algn="l" pos="4849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46080"/>
                <a:tab algn="l" pos="4849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1680" y="0"/>
            <a:ext cx="8528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авило принятия решения в тесте Дики и Фулле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743200" y="2914560"/>
            <a:ext cx="4863960" cy="1800360"/>
          </a:xfrm>
          <a:custGeom>
            <a:avLst/>
            <a:gdLst/>
            <a:ahLst/>
            <a:rect l="l" t="t" r="r" b="b"/>
            <a:pathLst>
              <a:path w="3448" h="1703">
                <a:moveTo>
                  <a:pt x="0" y="1701"/>
                </a:moveTo>
                <a:cubicBezTo>
                  <a:pt x="95" y="1701"/>
                  <a:pt x="131" y="1703"/>
                  <a:pt x="225" y="1698"/>
                </a:cubicBezTo>
                <a:cubicBezTo>
                  <a:pt x="284" y="1695"/>
                  <a:pt x="326" y="1696"/>
                  <a:pt x="377" y="1691"/>
                </a:cubicBezTo>
                <a:cubicBezTo>
                  <a:pt x="428" y="1686"/>
                  <a:pt x="491" y="1675"/>
                  <a:pt x="532" y="1667"/>
                </a:cubicBezTo>
                <a:cubicBezTo>
                  <a:pt x="572" y="1658"/>
                  <a:pt x="594" y="1651"/>
                  <a:pt x="622" y="1641"/>
                </a:cubicBezTo>
                <a:cubicBezTo>
                  <a:pt x="650" y="1630"/>
                  <a:pt x="677" y="1617"/>
                  <a:pt x="700" y="1603"/>
                </a:cubicBezTo>
                <a:cubicBezTo>
                  <a:pt x="723" y="1589"/>
                  <a:pt x="740" y="1575"/>
                  <a:pt x="760" y="1560"/>
                </a:cubicBezTo>
                <a:cubicBezTo>
                  <a:pt x="780" y="1545"/>
                  <a:pt x="800" y="1529"/>
                  <a:pt x="820" y="1511"/>
                </a:cubicBezTo>
                <a:cubicBezTo>
                  <a:pt x="840" y="1493"/>
                  <a:pt x="858" y="1474"/>
                  <a:pt x="879" y="1450"/>
                </a:cubicBezTo>
                <a:cubicBezTo>
                  <a:pt x="900" y="1426"/>
                  <a:pt x="927" y="1393"/>
                  <a:pt x="947" y="1365"/>
                </a:cubicBezTo>
                <a:cubicBezTo>
                  <a:pt x="967" y="1337"/>
                  <a:pt x="983" y="1311"/>
                  <a:pt x="999" y="1285"/>
                </a:cubicBezTo>
                <a:cubicBezTo>
                  <a:pt x="1015" y="1259"/>
                  <a:pt x="1029" y="1234"/>
                  <a:pt x="1043" y="1210"/>
                </a:cubicBezTo>
                <a:cubicBezTo>
                  <a:pt x="1057" y="1186"/>
                  <a:pt x="1071" y="1161"/>
                  <a:pt x="1083" y="1139"/>
                </a:cubicBezTo>
                <a:cubicBezTo>
                  <a:pt x="1095" y="1117"/>
                  <a:pt x="1104" y="1099"/>
                  <a:pt x="1114" y="1077"/>
                </a:cubicBezTo>
                <a:cubicBezTo>
                  <a:pt x="1124" y="1055"/>
                  <a:pt x="1133" y="1034"/>
                  <a:pt x="1146" y="1007"/>
                </a:cubicBezTo>
                <a:cubicBezTo>
                  <a:pt x="1159" y="980"/>
                  <a:pt x="1175" y="946"/>
                  <a:pt x="1190" y="913"/>
                </a:cubicBezTo>
                <a:cubicBezTo>
                  <a:pt x="1205" y="880"/>
                  <a:pt x="1219" y="846"/>
                  <a:pt x="1235" y="807"/>
                </a:cubicBezTo>
                <a:cubicBezTo>
                  <a:pt x="1251" y="768"/>
                  <a:pt x="1273" y="717"/>
                  <a:pt x="1289" y="679"/>
                </a:cubicBezTo>
                <a:cubicBezTo>
                  <a:pt x="1305" y="641"/>
                  <a:pt x="1318" y="609"/>
                  <a:pt x="1331" y="576"/>
                </a:cubicBezTo>
                <a:cubicBezTo>
                  <a:pt x="1344" y="543"/>
                  <a:pt x="1355" y="513"/>
                  <a:pt x="1368" y="484"/>
                </a:cubicBezTo>
                <a:cubicBezTo>
                  <a:pt x="1381" y="455"/>
                  <a:pt x="1392" y="430"/>
                  <a:pt x="1407" y="399"/>
                </a:cubicBezTo>
                <a:cubicBezTo>
                  <a:pt x="1422" y="368"/>
                  <a:pt x="1443" y="325"/>
                  <a:pt x="1457" y="297"/>
                </a:cubicBezTo>
                <a:cubicBezTo>
                  <a:pt x="1471" y="269"/>
                  <a:pt x="1476" y="256"/>
                  <a:pt x="1488" y="234"/>
                </a:cubicBezTo>
                <a:cubicBezTo>
                  <a:pt x="1500" y="212"/>
                  <a:pt x="1515" y="187"/>
                  <a:pt x="1529" y="165"/>
                </a:cubicBezTo>
                <a:cubicBezTo>
                  <a:pt x="1543" y="143"/>
                  <a:pt x="1558" y="119"/>
                  <a:pt x="1572" y="101"/>
                </a:cubicBezTo>
                <a:cubicBezTo>
                  <a:pt x="1586" y="83"/>
                  <a:pt x="1597" y="69"/>
                  <a:pt x="1613" y="55"/>
                </a:cubicBezTo>
                <a:cubicBezTo>
                  <a:pt x="1629" y="41"/>
                  <a:pt x="1653" y="24"/>
                  <a:pt x="1671" y="15"/>
                </a:cubicBezTo>
                <a:cubicBezTo>
                  <a:pt x="1689" y="6"/>
                  <a:pt x="1704" y="0"/>
                  <a:pt x="1721" y="0"/>
                </a:cubicBezTo>
                <a:cubicBezTo>
                  <a:pt x="1738" y="0"/>
                  <a:pt x="1757" y="5"/>
                  <a:pt x="1776" y="15"/>
                </a:cubicBezTo>
                <a:cubicBezTo>
                  <a:pt x="1795" y="25"/>
                  <a:pt x="1825" y="52"/>
                  <a:pt x="1835" y="59"/>
                </a:cubicBezTo>
                <a:cubicBezTo>
                  <a:pt x="1845" y="66"/>
                  <a:pt x="1828" y="50"/>
                  <a:pt x="1836" y="59"/>
                </a:cubicBezTo>
                <a:cubicBezTo>
                  <a:pt x="1844" y="68"/>
                  <a:pt x="1867" y="96"/>
                  <a:pt x="1880" y="113"/>
                </a:cubicBezTo>
                <a:cubicBezTo>
                  <a:pt x="1893" y="130"/>
                  <a:pt x="1902" y="144"/>
                  <a:pt x="1912" y="160"/>
                </a:cubicBezTo>
                <a:cubicBezTo>
                  <a:pt x="1922" y="176"/>
                  <a:pt x="1931" y="191"/>
                  <a:pt x="1943" y="211"/>
                </a:cubicBezTo>
                <a:cubicBezTo>
                  <a:pt x="1955" y="231"/>
                  <a:pt x="1969" y="258"/>
                  <a:pt x="1982" y="283"/>
                </a:cubicBezTo>
                <a:cubicBezTo>
                  <a:pt x="1995" y="308"/>
                  <a:pt x="2009" y="334"/>
                  <a:pt x="2022" y="361"/>
                </a:cubicBezTo>
                <a:cubicBezTo>
                  <a:pt x="2035" y="388"/>
                  <a:pt x="2042" y="409"/>
                  <a:pt x="2058" y="445"/>
                </a:cubicBezTo>
                <a:cubicBezTo>
                  <a:pt x="2074" y="481"/>
                  <a:pt x="2097" y="535"/>
                  <a:pt x="2116" y="580"/>
                </a:cubicBezTo>
                <a:cubicBezTo>
                  <a:pt x="2135" y="625"/>
                  <a:pt x="2154" y="675"/>
                  <a:pt x="2172" y="717"/>
                </a:cubicBezTo>
                <a:cubicBezTo>
                  <a:pt x="2190" y="759"/>
                  <a:pt x="2207" y="799"/>
                  <a:pt x="2222" y="833"/>
                </a:cubicBezTo>
                <a:cubicBezTo>
                  <a:pt x="2237" y="867"/>
                  <a:pt x="2247" y="891"/>
                  <a:pt x="2260" y="919"/>
                </a:cubicBezTo>
                <a:cubicBezTo>
                  <a:pt x="2273" y="947"/>
                  <a:pt x="2286" y="973"/>
                  <a:pt x="2300" y="1002"/>
                </a:cubicBezTo>
                <a:cubicBezTo>
                  <a:pt x="2314" y="1031"/>
                  <a:pt x="2325" y="1060"/>
                  <a:pt x="2343" y="1096"/>
                </a:cubicBezTo>
                <a:cubicBezTo>
                  <a:pt x="2361" y="1132"/>
                  <a:pt x="2388" y="1184"/>
                  <a:pt x="2406" y="1217"/>
                </a:cubicBezTo>
                <a:cubicBezTo>
                  <a:pt x="2424" y="1250"/>
                  <a:pt x="2437" y="1269"/>
                  <a:pt x="2454" y="1296"/>
                </a:cubicBezTo>
                <a:cubicBezTo>
                  <a:pt x="2471" y="1323"/>
                  <a:pt x="2491" y="1356"/>
                  <a:pt x="2507" y="1378"/>
                </a:cubicBezTo>
                <a:cubicBezTo>
                  <a:pt x="2523" y="1400"/>
                  <a:pt x="2534" y="1412"/>
                  <a:pt x="2548" y="1429"/>
                </a:cubicBezTo>
                <a:cubicBezTo>
                  <a:pt x="2562" y="1446"/>
                  <a:pt x="2577" y="1465"/>
                  <a:pt x="2594" y="1482"/>
                </a:cubicBezTo>
                <a:cubicBezTo>
                  <a:pt x="2611" y="1499"/>
                  <a:pt x="2628" y="1517"/>
                  <a:pt x="2649" y="1534"/>
                </a:cubicBezTo>
                <a:cubicBezTo>
                  <a:pt x="2670" y="1551"/>
                  <a:pt x="2693" y="1566"/>
                  <a:pt x="2717" y="1582"/>
                </a:cubicBezTo>
                <a:cubicBezTo>
                  <a:pt x="2741" y="1598"/>
                  <a:pt x="2766" y="1614"/>
                  <a:pt x="2794" y="1627"/>
                </a:cubicBezTo>
                <a:cubicBezTo>
                  <a:pt x="2822" y="1640"/>
                  <a:pt x="2856" y="1651"/>
                  <a:pt x="2885" y="1659"/>
                </a:cubicBezTo>
                <a:cubicBezTo>
                  <a:pt x="2914" y="1667"/>
                  <a:pt x="2932" y="1672"/>
                  <a:pt x="2968" y="1678"/>
                </a:cubicBezTo>
                <a:cubicBezTo>
                  <a:pt x="3004" y="1684"/>
                  <a:pt x="3066" y="1692"/>
                  <a:pt x="3101" y="1695"/>
                </a:cubicBezTo>
                <a:cubicBezTo>
                  <a:pt x="3136" y="1698"/>
                  <a:pt x="3121" y="1697"/>
                  <a:pt x="3179" y="1698"/>
                </a:cubicBezTo>
                <a:cubicBezTo>
                  <a:pt x="3237" y="1699"/>
                  <a:pt x="3392" y="1701"/>
                  <a:pt x="3448" y="1701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143000" y="4724280"/>
            <a:ext cx="7010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81480" y="4670280"/>
            <a:ext cx="0" cy="54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786280" y="4670280"/>
            <a:ext cx="0" cy="54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391440" y="4670280"/>
            <a:ext cx="0" cy="54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96240" y="4670280"/>
            <a:ext cx="0" cy="54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576680" y="4670280"/>
            <a:ext cx="0" cy="54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971880" y="4670280"/>
            <a:ext cx="0" cy="54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367080" y="4670280"/>
            <a:ext cx="0" cy="54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599240" y="4670280"/>
            <a:ext cx="0" cy="54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763720" y="4670280"/>
            <a:ext cx="0" cy="54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1066680"/>
            <a:ext cx="2438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979640" y="4221000"/>
            <a:ext cx="0" cy="611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564000" y="4365720"/>
            <a:ext cx="144360" cy="252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26920" y="1197000"/>
            <a:ext cx="5113440" cy="28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авило отвержения нулевой гипотезы при уровне значимости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сновная гипотеза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вергается, если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2857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3009960" y="2924280"/>
                <a:ext cx="1093680" cy="63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&lt;</m:t>
                    </m:r>
                    <m:sSubSup>
                      <m:e>
                        <m:r>
                          <m:t xml:space="preserve">τ</m:t>
                        </m:r>
                      </m:e>
                      <m:sub>
                        <m:r>
                          <m:t xml:space="preserve">α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cr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3483000" y="2308320"/>
                <a:ext cx="123336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δ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3132000" y="4076640"/>
                <a:ext cx="289080" cy="2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3645000" y="4797360"/>
                <a:ext cx="85572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Sup>
                      <m:e>
                        <m:r>
                          <m:t xml:space="preserve">τ</m:t>
                        </m:r>
                      </m:e>
                      <m:sub>
                        <m:r>
                          <m:t xml:space="preserve">α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cr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40" name=""/>
          <p:cNvSpPr/>
          <p:nvPr/>
        </p:nvSpPr>
        <p:spPr>
          <a:xfrm>
            <a:off x="6353280" y="4465800"/>
            <a:ext cx="623880" cy="258480"/>
          </a:xfrm>
          <a:custGeom>
            <a:avLst/>
            <a:gdLst/>
            <a:ahLst/>
            <a:rect l="l" t="t" r="r" b="b"/>
            <a:pathLst>
              <a:path w="393" h="163">
                <a:moveTo>
                  <a:pt x="0" y="13"/>
                </a:moveTo>
                <a:cubicBezTo>
                  <a:pt x="20" y="0"/>
                  <a:pt x="87" y="66"/>
                  <a:pt x="129" y="85"/>
                </a:cubicBezTo>
                <a:cubicBezTo>
                  <a:pt x="171" y="104"/>
                  <a:pt x="208" y="117"/>
                  <a:pt x="252" y="130"/>
                </a:cubicBezTo>
                <a:cubicBezTo>
                  <a:pt x="296" y="143"/>
                  <a:pt x="371" y="160"/>
                  <a:pt x="393" y="163"/>
                </a:cubicBezTo>
                <a:lnTo>
                  <a:pt x="387" y="151"/>
                </a:lnTo>
                <a:lnTo>
                  <a:pt x="24" y="154"/>
                </a:lnTo>
                <a:lnTo>
                  <a:pt x="0" y="13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95280" y="5877000"/>
            <a:ext cx="8528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ерым цветом выделена область отвержения нулевой гипотез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388360" y="6237360"/>
            <a:ext cx="50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ff"/>
                </a:solidFill>
                <a:latin typeface="Arial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01680" y="455760"/>
            <a:ext cx="8532720" cy="60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01680" y="0"/>
            <a:ext cx="8528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сширенный тес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ики и Фуллера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F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683560" y="655308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ff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55640" y="981000"/>
            <a:ext cx="7920000" cy="28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ст Дики – Фуллера можно провести только в том случае, если ошибки регрессии не коррелируют. В противном случае применяется расширенный тест Дики и Фуллера с использованием той же тау - статистик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755640" y="3213000"/>
                <a:ext cx="670572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δX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</m:e>
                    </m:nary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755640" y="4221000"/>
                <a:ext cx="640872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δ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нестационарность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755640" y="5013360"/>
                <a:ext cx="5329080" cy="58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δ</m:t>
                    </m:r>
                    <m:r>
                      <m:t xml:space="preserve">&lt;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стационарность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301680" y="455760"/>
            <a:ext cx="8532720" cy="60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01680" y="0"/>
            <a:ext cx="8528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ме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683560" y="655308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ff"/>
                </a:solidFill>
                <a:latin typeface="Arial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01680" y="5788080"/>
            <a:ext cx="853272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огарифм расходов на аренду жилья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Очевидно, ряд нестационарен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733920" y="54936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LGH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252360" y="723960"/>
          <a:ext cx="8639280" cy="5010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2360" y="723960"/>
                    <a:ext cx="8639280" cy="501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318960" y="503280"/>
            <a:ext cx="6715080" cy="252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18960" y="2852640"/>
            <a:ext cx="2210040" cy="1627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18960" y="2208240"/>
            <a:ext cx="3638520" cy="252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01680" y="455760"/>
            <a:ext cx="8532720" cy="520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ugmented Dickey-Fuller Unit Root Test on LGH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ugmented Dickey-Fuller test statistic   -1.691709   0.7378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est critical values1% level             -4.186481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5% level             -3.518090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0% level             -3.189732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pendent Variable: D(LGHOUS)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ethod: Least Squares            Sample(adjusted): 1961 2003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ariable      Coefficient Std. Error t-Statistic  Prob.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GHOUS(-1)      -0.034904   0.020632  -1.691709   0.0987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(LGHOUS(-1))     0.274772   0.149339   1.839923   0.0734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           0.232945   0.117491   1.982662   0.0545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@TREND(1959)      0.000576   0.000672   0.855999   0.3972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01680" y="0"/>
            <a:ext cx="8528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ме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683560" y="655308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ff"/>
                </a:solidFill>
                <a:latin typeface="Arial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01680" y="5788080"/>
            <a:ext cx="853272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меет место нестационарность (с трендом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468360" y="4869000"/>
                <a:ext cx="524664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δX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b>
                      <m:e>
                        <m:r>
                          <m:t xml:space="preserve">ΔX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01680" y="455760"/>
            <a:ext cx="8532720" cy="60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14800" y="54144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(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LGHOU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01680" y="0"/>
            <a:ext cx="8528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ме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683560" y="655308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ff"/>
                </a:solidFill>
                <a:latin typeface="Arial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01680" y="5788080"/>
            <a:ext cx="853272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рафик первых разностей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252360" y="723960"/>
          <a:ext cx="8639280" cy="5010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2360" y="723960"/>
                    <a:ext cx="8639280" cy="501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318960" y="985680"/>
            <a:ext cx="6243840" cy="252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805120" y="3432240"/>
            <a:ext cx="1179360" cy="252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492880" y="3432240"/>
            <a:ext cx="1179360" cy="252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18960" y="3432240"/>
            <a:ext cx="1997280" cy="252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18960" y="503280"/>
            <a:ext cx="6729480" cy="252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18960" y="2208240"/>
            <a:ext cx="3764160" cy="252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01680" y="455760"/>
            <a:ext cx="8532720" cy="39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ugmented Dickey-Fuller Unit Root Test on DLGH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ugmented Dickey-Fuller test statistic   -4.518902   0.0042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est critical values1% level             -4.192337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5% level             -3.520787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0% level             -3.191277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pendent Variable: D(DLGHOUS)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ethod: Least Squares            Sample(adjusted): 1962 2003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ariable      Coefficient Std. Error t-Statistic  Prob.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LGHOUS(-1)     -0.833121   0.184363  -4.518902   0.0001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(DLGHOUS(-1))     0.232715   0.161176   1.443855   0.1570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           0.043288   0.010121   4.277022   0.0001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@TREND(1959)     -0.000668   0.000181  -3.691100   0.0007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01680" y="0"/>
            <a:ext cx="8528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ме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683560" y="655308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ff"/>
                </a:solidFill>
                <a:latin typeface="Arial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01680" y="5788080"/>
            <a:ext cx="853272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ипотеза о нестационарности первых разностей не отвергается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301680" y="0"/>
            <a:ext cx="8528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ме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683560" y="655308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ff"/>
                </a:solidFill>
                <a:latin typeface="Arial"/>
              </a:rPr>
              <a:t>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01680" y="5788080"/>
            <a:ext cx="853272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ледовательно, временной ряд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LGHOU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является процессом типа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I(1)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18960" y="985680"/>
            <a:ext cx="6243840" cy="252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805120" y="3432240"/>
            <a:ext cx="1179360" cy="252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492880" y="3432240"/>
            <a:ext cx="1179360" cy="252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18960" y="3432240"/>
            <a:ext cx="1997280" cy="252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18960" y="503280"/>
            <a:ext cx="6729480" cy="252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18960" y="2208240"/>
            <a:ext cx="3764160" cy="252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01680" y="455760"/>
            <a:ext cx="8532720" cy="39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ugmented Dickey-Fuller Unit Root Test on DLGH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ugmented Dickey-Fuller test statistic   -4.518902   0.0042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est critical values1% level             -4.192337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5% level             -3.520787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0% level             -3.191277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pendent Variable: D(DLGHOUS)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ethod: Least Squares            Sample(adjusted): 1962 2003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ariable      Coefficient Std. Error t-Statistic  Prob.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LGHOUS(-1)     -0.833121   0.184363  -4.518902   0.0001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(DLGHOUS(-1))     0.232715   0.161176   1.443855   0.1570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           0.043288   0.010121   4.277022   0.0001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@TREND(1959)     -0.000668   0.000181  -3.691100   0.0007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301680" y="455760"/>
            <a:ext cx="8532720" cy="60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733920" y="54144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LGDP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1680" y="0"/>
            <a:ext cx="8528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683560" y="655308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ff"/>
                </a:solidFill>
                <a:latin typeface="Arial"/>
              </a:rPr>
              <a:t>1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01680" y="5788080"/>
            <a:ext cx="853272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тот временной ряд (располагаемый доход) тоже, очевидно, нестационарен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252360" y="723960"/>
          <a:ext cx="8639280" cy="5010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2360" y="723960"/>
                    <a:ext cx="8639280" cy="501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01680" y="455760"/>
            <a:ext cx="8532720" cy="60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01680" y="0"/>
            <a:ext cx="8528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стирование нестационарно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683560" y="655308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ff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55640" y="1508040"/>
            <a:ext cx="534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втокорреляционная функц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 rot="10881000">
            <a:off x="6003720" y="2348280"/>
            <a:ext cx="267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ля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= 1,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755640" y="2205000"/>
                <a:ext cx="471168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E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E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X</m:t>
                                    </m:r>
                                  </m:sub>
                                </m:sSub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E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  <m:r>
                                          <m:t xml:space="preserve">+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μ</m:t>
                                        </m:r>
                                      </m:e>
                                      <m:sub>
                                        <m:r>
                                          <m:t xml:space="preserve">X</m:t>
                                        </m:r>
                                      </m:sub>
                                    </m:sSub>
                                    <m:sSup>
                                      <m:e>
                                        <m:r>
                                          <m:t xml:space="preserve">)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</m:d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318960" y="985680"/>
            <a:ext cx="6243840" cy="252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805120" y="3432240"/>
            <a:ext cx="1179360" cy="252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492880" y="3432240"/>
            <a:ext cx="1179360" cy="252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18960" y="3432240"/>
            <a:ext cx="1997280" cy="252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18960" y="503280"/>
            <a:ext cx="6604200" cy="252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18960" y="2208240"/>
            <a:ext cx="3764160" cy="252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01680" y="455760"/>
            <a:ext cx="8532720" cy="44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ugmented Dickey-Fuller Unit Root Test on LGD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ugmented Dickey-Fuller test statistic   -2.322310   0.4134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est critical values1% level             -4.186481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5% level             -3.518090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0% level             -3.189732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pendent Variable: D(LGDPI)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ethod: Least Squares               ple(adjusted): 1961 2003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ariable      Coefficient Std. Error t-Statistic  Prob.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GDPI(-1)      -0.120908   0.052064  -2.322310   0.0255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(LGDPI(-1))      0.107910   0.147515   0.731520   0.4688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           0.947906   0.390441   2.427787   0.0199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@TREND(1959)      0.003580   0.001737   2.061228   0.0460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01680" y="0"/>
            <a:ext cx="8528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ме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8683560" y="655308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ff"/>
                </a:solidFill>
                <a:latin typeface="Arial"/>
              </a:rPr>
              <a:t>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1680" y="5788080"/>
            <a:ext cx="853272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гласно расширенному тесту Дики и Фуллера, ряд нестационарен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301680" y="455760"/>
            <a:ext cx="8532720" cy="60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733920" y="54144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(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LGDPI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01680" y="0"/>
            <a:ext cx="8528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ме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683560" y="655308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3366ff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01680" y="5788080"/>
            <a:ext cx="853272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ременной ряд первых разностей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252360" y="723960"/>
          <a:ext cx="8639280" cy="5010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2360" y="723960"/>
                    <a:ext cx="8639280" cy="501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18960" y="985680"/>
            <a:ext cx="6243840" cy="252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805120" y="3432240"/>
            <a:ext cx="1179360" cy="252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492880" y="3432240"/>
            <a:ext cx="1179360" cy="252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18960" y="3432240"/>
            <a:ext cx="1997280" cy="252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18960" y="503280"/>
            <a:ext cx="6729480" cy="252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18960" y="2208240"/>
            <a:ext cx="3764160" cy="252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01680" y="455760"/>
            <a:ext cx="8532720" cy="44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ugmented Dickey-Fuller Unit Root Test on DLGD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ugmented Dickey-Fuller test statistic   -4.125167   0.0119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est critical values1% level             -4.192337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5% level             -3.520787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0% level             -3.191277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pendent Variable: D(DLGDPI)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ethod: Least Squares            Sample(adjusted): 1962 2003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ariable      Coefficient Std. Error t-Statistic  Prob.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LGDPI(-1)      -0.892399   0.216330  -4.125167   0.0002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(DLGDPI(-1))    -0.045015   0.158840  -0.283400   0.7784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           0.041368   0.011109   3.723927   0.0006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@TREND(1959)     -0.000453   0.000225  -2.007941   0.0518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01680" y="0"/>
            <a:ext cx="8528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ме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8683560" y="655308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ff"/>
                </a:solidFill>
                <a:latin typeface="Arial"/>
              </a:rPr>
              <a:t>2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01680" y="5788080"/>
            <a:ext cx="853272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яд в первых разностях стационарен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301680" y="455760"/>
            <a:ext cx="8532720" cy="60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54144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LGPRH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1680" y="0"/>
            <a:ext cx="8528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ме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683560" y="655308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ff"/>
                </a:solidFill>
                <a:latin typeface="Arial"/>
              </a:rPr>
              <a:t>2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1680" y="5788080"/>
            <a:ext cx="853272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ационарен ли этот ряд (относительная цена аренды жилья)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252360" y="723960"/>
          <a:ext cx="8639280" cy="5010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2360" y="723960"/>
                    <a:ext cx="8639280" cy="501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318960" y="985680"/>
            <a:ext cx="6243840" cy="252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805120" y="3432240"/>
            <a:ext cx="1179360" cy="252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492880" y="3432240"/>
            <a:ext cx="1179360" cy="252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18960" y="3432240"/>
            <a:ext cx="1997280" cy="252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18960" y="503280"/>
            <a:ext cx="6981840" cy="252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18960" y="2208240"/>
            <a:ext cx="3886200" cy="252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01680" y="455760"/>
            <a:ext cx="8532720" cy="44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ugmented Dickey-Fuller Unit Root Test on LGPRH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ugmented Dickey-Fuller test statistic   -1.420016   0.8408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est critical values1% level             -4.186481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5% level             -3.518090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0% level             -3.189732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pendent Variable: D(LGPRHOUS)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ethod: Least Squares            Sample(adjusted): 1961 2003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ariable      Coefficient Std. Error t-Statistic  Prob.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GPRHOUS(-1)     -0.048259   0.033985  -1.420016   0.1635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(LGPRHOUS(-1))    0.504742   0.140567   3.590749   0.0009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           0.209124   0.150738   1.387337   0.1732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@TREND(1959)      0.000410   0.000189   2.170909   0.0361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01680" y="0"/>
            <a:ext cx="8528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ме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8683560" y="655308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ff"/>
                </a:solidFill>
                <a:latin typeface="Arial"/>
              </a:rPr>
              <a:t>2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01680" y="5788080"/>
            <a:ext cx="853272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гласно расширенному тесту Дики – Фуллера, этот ряд нестационарен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301680" y="455760"/>
            <a:ext cx="8532720" cy="60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657600" y="539640"/>
            <a:ext cx="18288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(</a:t>
            </a: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LGPRHOU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01680" y="0"/>
            <a:ext cx="8528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ме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683560" y="655308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ff"/>
                </a:solidFill>
                <a:latin typeface="Arial"/>
              </a:rPr>
              <a:t>2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01680" y="5788080"/>
            <a:ext cx="85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яд первых разностей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252360" y="723960"/>
          <a:ext cx="8639280" cy="5010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2360" y="723960"/>
                    <a:ext cx="8639280" cy="501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318960" y="985680"/>
            <a:ext cx="6243840" cy="252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805120" y="3432240"/>
            <a:ext cx="1179360" cy="252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492880" y="3432240"/>
            <a:ext cx="1179360" cy="252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18960" y="3432240"/>
            <a:ext cx="1997280" cy="252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18960" y="503280"/>
            <a:ext cx="6981840" cy="252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18960" y="2208240"/>
            <a:ext cx="3886200" cy="252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01680" y="455760"/>
            <a:ext cx="8532720" cy="44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ugmented Dickey-Fuller Unit Root Test on DLPRH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ugmented Dickey-Fuller test statistic   -4.611691   0.0033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est critical values1% level             -4.192337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5% level             -3.520787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0% level             -3.191277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pendent Variable: D(DLPRHOUS)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ethod: Least Squares            Sample(adjusted): 1962 2003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ariable      Coefficient Std. Error t-Statistic  Prob.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LPRHOUS(-1)     -0.720856   0.156311  -4.611691   0.0000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(DLPRHOUS(-1))    0.349962   0.153860   2.274546   0.0287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          -0.007368   0.004294  -1.716005   0.0943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@TREND(1959)      0.000407   0.000174   2.335997   0.0249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01680" y="0"/>
            <a:ext cx="8528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ме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683560" y="655308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ff"/>
                </a:solidFill>
                <a:latin typeface="Arial"/>
              </a:rPr>
              <a:t>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01680" y="5788080"/>
            <a:ext cx="853272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яд первых разностей стационарен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1680" y="455760"/>
            <a:ext cx="8532720" cy="60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1680" y="0"/>
            <a:ext cx="8528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стирование нестационарно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683560" y="655308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ff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1680" y="5229360"/>
            <a:ext cx="8532720" cy="14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рафик выборочной автокорреляционной функции называется коррелограммой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684360" y="1916280"/>
                <a:ext cx="4895640" cy="119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  <m:r>
                                  <m:t xml:space="preserve">)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nary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  <m:sSup>
                                      <m:e>
                                        <m:r>
                                          <m:t xml:space="preserve">)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nary>
                                <m:nary>
                                  <m:naryPr>
                                    <m:chr m:val="∑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  <m:r>
                                          <m:t xml:space="preserve">+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acc>
                                      <m:accPr>
                                        <m:chr m:val="¯"/>
                                      </m:accPr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</m:acc>
                                    <m:sSup>
                                      <m:e>
                                        <m:r>
                                          <m:t xml:space="preserve">)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nary>
                              </m:e>
                            </m:d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684360" y="765000"/>
            <a:ext cx="77752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борочная автокорреляционная функц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^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01680" y="455760"/>
            <a:ext cx="8532720" cy="60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1680" y="0"/>
            <a:ext cx="8528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втокорреляционная функци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683560" y="655308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ff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1752480" y="1447920"/>
                <a:ext cx="4711680" cy="85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E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k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E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μ</m:t>
                                    </m:r>
                                  </m:e>
                                  <m:sub>
                                    <m:r>
                                      <m:t xml:space="preserve">X</m:t>
                                    </m:r>
                                  </m:sub>
                                </m:sSub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E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  <m:r>
                                          <m:t xml:space="preserve">+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μ</m:t>
                                        </m:r>
                                      </m:e>
                                      <m:sub>
                                        <m:r>
                                          <m:t xml:space="preserve">X</m:t>
                                        </m:r>
                                      </m:sub>
                                    </m:sSub>
                                    <m:sSup>
                                      <m:e>
                                        <m:r>
                                          <m:t xml:space="preserve">)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</m:d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9" name=""/>
          <p:cNvSpPr/>
          <p:nvPr/>
        </p:nvSpPr>
        <p:spPr>
          <a:xfrm>
            <a:off x="900000" y="2895480"/>
            <a:ext cx="69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втокорреляционная функция для процесс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R(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4057560" y="4076640"/>
                <a:ext cx="102888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3549600" y="3486240"/>
                <a:ext cx="204480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2" name=""/>
          <p:cNvSpPr/>
          <p:nvPr/>
        </p:nvSpPr>
        <p:spPr>
          <a:xfrm>
            <a:off x="539640" y="5013360"/>
            <a:ext cx="770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втокорреляционные функции для других стационарных процессов также экспоненциально убывают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01680" y="455760"/>
            <a:ext cx="8532720" cy="60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1680" y="0"/>
            <a:ext cx="8528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ррелограмм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683560" y="655308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ff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5702400" y="2114640"/>
                <a:ext cx="1028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5194440" y="1523880"/>
                <a:ext cx="204444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2895480" y="2222640"/>
                <a:ext cx="105408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69" name=""/>
          <p:cNvGraphicFramePr/>
          <p:nvPr/>
        </p:nvGraphicFramePr>
        <p:xfrm>
          <a:off x="685800" y="457200"/>
          <a:ext cx="7669080" cy="4718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"/>
                    <a:ext cx="7669080" cy="471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1258920" y="5373720"/>
            <a:ext cx="7058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ррелограмма процесс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R(1)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ррелограмма стационарного временного ряда быстро убывает с ростом к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01680" y="455760"/>
            <a:ext cx="8532720" cy="60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01680" y="0"/>
            <a:ext cx="8528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ррелограмм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683560" y="655308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ff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71640" y="5516640"/>
            <a:ext cx="727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ррелограмма процесса случайного блуждани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ndom walk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5727600" y="1143000"/>
                <a:ext cx="1739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aphicFrame>
        <p:nvGraphicFramePr>
          <p:cNvPr id="77" name=""/>
          <p:cNvGraphicFramePr/>
          <p:nvPr/>
        </p:nvGraphicFramePr>
        <p:xfrm>
          <a:off x="685800" y="457200"/>
          <a:ext cx="7669080" cy="4718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"/>
                    <a:ext cx="7669080" cy="471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01680" y="455760"/>
            <a:ext cx="8532720" cy="60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01680" y="0"/>
            <a:ext cx="8528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астная автокорреляционная функци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683560" y="655308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ff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00000" y="765000"/>
            <a:ext cx="6985080" cy="23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астная автокорреляционная функция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CF (partial autocorrelation function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CF(k) 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чистая корреляция» между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t-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 исключении влияния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t-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…,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t-k+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CF(k)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числяется как МНК оценка коэффициента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 регрессии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39640" y="5013360"/>
            <a:ext cx="799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астные автокорреляционные функции для стационарных процессов также быстро убывают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971640" y="3529080"/>
                <a:ext cx="576108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179880" y="1725480"/>
                <a:ext cx="264132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6" name=""/>
          <p:cNvSpPr/>
          <p:nvPr/>
        </p:nvSpPr>
        <p:spPr>
          <a:xfrm>
            <a:off x="301680" y="455760"/>
            <a:ext cx="8532720" cy="60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1680" y="0"/>
            <a:ext cx="8528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стирование нестационарно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683560" y="655308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ff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1680" y="4581360"/>
            <a:ext cx="8532720" cy="20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олее формальный метод проверки нестационарности временного ряда называется тестом на наличие единичного корня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root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st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3270240" y="762120"/>
                <a:ext cx="26416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1" name=""/>
          <p:cNvSpPr/>
          <p:nvPr/>
        </p:nvSpPr>
        <p:spPr>
          <a:xfrm>
            <a:off x="301680" y="455760"/>
            <a:ext cx="8532720" cy="60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2340000" y="1725480"/>
                <a:ext cx="139680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2340000" y="2637000"/>
                <a:ext cx="1384200" cy="3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4" name=""/>
          <p:cNvSpPr/>
          <p:nvPr/>
        </p:nvSpPr>
        <p:spPr>
          <a:xfrm>
            <a:off x="301680" y="0"/>
            <a:ext cx="8528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стирование нестационарно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683560" y="655308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ff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4211640" y="2492280"/>
                <a:ext cx="321300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ε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4500720" y="1687680"/>
                <a:ext cx="29080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tσ</m:t>
                        </m:r>
                      </m:e>
                      <m:sub>
                        <m:r>
                          <m:t xml:space="preserve">ε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 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2340000" y="3789360"/>
                <a:ext cx="478800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2050920" y="4581360"/>
                <a:ext cx="525780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2824200" y="5516640"/>
                <a:ext cx="400032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δX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9T13:24:56Z</dcterms:created>
  <dc:creator>Thomas Dougherty</dc:creator>
  <dc:description/>
  <dc:language>en-US</dc:language>
  <cp:lastModifiedBy>Demidov</cp:lastModifiedBy>
  <dcterms:modified xsi:type="dcterms:W3CDTF">2009-01-26T16:31:51Z</dcterms:modified>
  <cp:revision>104</cp:revision>
  <dc:subject/>
  <dc:title>No Slide Title</dc:title>
</cp:coreProperties>
</file>