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A21B-2EE2-4ED0-95B6-189067667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BD8F-5D99-41DE-9A7C-ADC0ECDA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43AB-A3C8-49C2-B935-0693DF98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47A4-CFC0-4A30-863D-C51C4DF6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00F-72CA-4812-9F02-F4C6E9A3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0509-C1A0-45C8-9206-3BD474E2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EBE-F6A7-4A6A-8576-FB53A168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7530-6307-4F69-827F-26AEF51B2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1C8E-172F-49B9-9FB8-8DFBA08C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80BE-4DE5-494E-90C3-7A729FEF2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CB32-593D-40F5-A961-B0DA15F2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64BC-3193-4954-BD57-42CA619D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2526-41A6-4456-AF50-996E92F69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ст Дарбина - Уотсо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9640" y="4797360"/>
            <a:ext cx="799308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аблице указан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енно нижняя и верхняя границы д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статистики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395280" y="1341360"/>
            <a:ext cx="5831280" cy="4488840"/>
            <a:chOff x="395280" y="1341360"/>
            <a:chExt cx="5831280" cy="4488840"/>
          </a:xfrm>
        </p:grpSpPr>
        <p:grpSp>
          <p:nvGrpSpPr>
            <p:cNvPr id="161" name=""/>
            <p:cNvGrpSpPr/>
            <p:nvPr/>
          </p:nvGrpSpPr>
          <p:grpSpPr>
            <a:xfrm>
              <a:off x="395280" y="1341360"/>
              <a:ext cx="5831280" cy="4488840"/>
              <a:chOff x="395280" y="1341360"/>
              <a:chExt cx="5831280" cy="4488840"/>
            </a:xfrm>
          </p:grpSpPr>
          <p:sp>
            <p:nvSpPr>
              <p:cNvPr id="162" name=""/>
              <p:cNvSpPr/>
              <p:nvPr/>
            </p:nvSpPr>
            <p:spPr>
              <a:xfrm>
                <a:off x="2338920" y="3867120"/>
                <a:ext cx="53964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30920" y="3867120"/>
                <a:ext cx="129564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366920" y="3867120"/>
                <a:ext cx="647640" cy="56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395280" y="1341360"/>
                <a:ext cx="5831280" cy="4488840"/>
                <a:chOff x="395280" y="1341360"/>
                <a:chExt cx="5831280" cy="44888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95280" y="3586320"/>
                  <a:ext cx="583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7" name=""/>
                <p:cNvGrpSpPr/>
                <p:nvPr/>
              </p:nvGrpSpPr>
              <p:grpSpPr>
                <a:xfrm>
                  <a:off x="1002240" y="1341360"/>
                  <a:ext cx="4858200" cy="4488840"/>
                  <a:chOff x="1002240" y="1341360"/>
                  <a:chExt cx="4858200" cy="4488840"/>
                </a:xfrm>
              </p:grpSpPr>
              <p:sp>
                <p:nvSpPr>
                  <p:cNvPr id="168" name=""/>
                  <p:cNvSpPr/>
                  <p:nvPr/>
                </p:nvSpPr>
                <p:spPr>
                  <a:xfrm flipH="1">
                    <a:off x="1002240" y="1341360"/>
                    <a:ext cx="4857840" cy="4488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9" name=""/>
                  <p:cNvSpPr/>
                  <p:nvPr/>
                </p:nvSpPr>
                <p:spPr>
                  <a:xfrm>
                    <a:off x="1002600" y="1341360"/>
                    <a:ext cx="4857840" cy="4488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70" name=""/>
                <p:cNvSpPr/>
                <p:nvPr/>
              </p:nvSpPr>
              <p:spPr>
                <a:xfrm>
                  <a:off x="3432600" y="3468960"/>
                  <a:ext cx="0" cy="37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1852920" y="1902600"/>
                  <a:ext cx="0" cy="168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075280" y="1902600"/>
                  <a:ext cx="0" cy="168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6480" y="1621800"/>
                  <a:ext cx="0" cy="196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4500720" y="1621800"/>
                  <a:ext cx="0" cy="196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1884600" y="1902600"/>
              <a:ext cx="510120" cy="1564200"/>
              <a:chOff x="1884600" y="1902600"/>
              <a:chExt cx="510120" cy="1564200"/>
            </a:xfrm>
          </p:grpSpPr>
          <p:sp>
            <p:nvSpPr>
              <p:cNvPr id="176" name=""/>
              <p:cNvSpPr/>
              <p:nvPr/>
            </p:nvSpPr>
            <p:spPr>
              <a:xfrm>
                <a:off x="1884600" y="2744280"/>
                <a:ext cx="51012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884600" y="1902600"/>
                <a:ext cx="51012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884600" y="2183040"/>
                <a:ext cx="51012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884600" y="2463480"/>
                <a:ext cx="51012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84600" y="3024720"/>
                <a:ext cx="51012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474440" y="1902600"/>
              <a:ext cx="548640" cy="1681560"/>
              <a:chOff x="4474440" y="1902600"/>
              <a:chExt cx="548640" cy="1681560"/>
            </a:xfrm>
          </p:grpSpPr>
          <p:sp>
            <p:nvSpPr>
              <p:cNvPr id="182" name=""/>
              <p:cNvSpPr/>
              <p:nvPr/>
            </p:nvSpPr>
            <p:spPr>
              <a:xfrm>
                <a:off x="4474440" y="2807280"/>
                <a:ext cx="548640" cy="4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474440" y="1902600"/>
                <a:ext cx="548640" cy="4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4440" y="2203920"/>
                <a:ext cx="548640" cy="4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474440" y="2505600"/>
                <a:ext cx="548640" cy="4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474440" y="3108960"/>
                <a:ext cx="548640" cy="4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4797360"/>
            <a:ext cx="7993080" cy="18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жнюю и верхнюю границу для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легко вычислить самостоятельно по формулам 4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4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ен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статистики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95280" y="1341360"/>
            <a:ext cx="5831280" cy="4488840"/>
            <a:chOff x="395280" y="1341360"/>
            <a:chExt cx="5831280" cy="4488840"/>
          </a:xfrm>
        </p:grpSpPr>
        <p:grpSp>
          <p:nvGrpSpPr>
            <p:cNvPr id="192" name=""/>
            <p:cNvGrpSpPr/>
            <p:nvPr/>
          </p:nvGrpSpPr>
          <p:grpSpPr>
            <a:xfrm>
              <a:off x="395280" y="1341360"/>
              <a:ext cx="5831280" cy="4488840"/>
              <a:chOff x="395280" y="1341360"/>
              <a:chExt cx="5831280" cy="4488840"/>
            </a:xfrm>
          </p:grpSpPr>
          <p:sp>
            <p:nvSpPr>
              <p:cNvPr id="193" name=""/>
              <p:cNvSpPr/>
              <p:nvPr/>
            </p:nvSpPr>
            <p:spPr>
              <a:xfrm>
                <a:off x="2338920" y="3867120"/>
                <a:ext cx="53964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930920" y="3867120"/>
                <a:ext cx="129564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366920" y="3867120"/>
                <a:ext cx="647640" cy="56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6" name=""/>
              <p:cNvGrpSpPr/>
              <p:nvPr/>
            </p:nvGrpSpPr>
            <p:grpSpPr>
              <a:xfrm>
                <a:off x="395280" y="1341360"/>
                <a:ext cx="5831280" cy="4488840"/>
                <a:chOff x="395280" y="1341360"/>
                <a:chExt cx="5831280" cy="44888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395280" y="3586320"/>
                  <a:ext cx="5831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8" name=""/>
                <p:cNvGrpSpPr/>
                <p:nvPr/>
              </p:nvGrpSpPr>
              <p:grpSpPr>
                <a:xfrm>
                  <a:off x="1002240" y="1341360"/>
                  <a:ext cx="4858200" cy="4488840"/>
                  <a:chOff x="1002240" y="1341360"/>
                  <a:chExt cx="4858200" cy="4488840"/>
                </a:xfrm>
              </p:grpSpPr>
              <p:sp>
                <p:nvSpPr>
                  <p:cNvPr id="199" name=""/>
                  <p:cNvSpPr/>
                  <p:nvPr/>
                </p:nvSpPr>
                <p:spPr>
                  <a:xfrm flipH="1">
                    <a:off x="1002240" y="1341360"/>
                    <a:ext cx="4857840" cy="4488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1002600" y="1341360"/>
                    <a:ext cx="4857840" cy="448884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3432600" y="3468960"/>
                  <a:ext cx="0" cy="37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852920" y="1902600"/>
                  <a:ext cx="0" cy="168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075280" y="1902600"/>
                  <a:ext cx="0" cy="1683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2346480" y="1621800"/>
                  <a:ext cx="0" cy="196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4500720" y="1621800"/>
                  <a:ext cx="0" cy="1964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1884600" y="1902600"/>
              <a:ext cx="510120" cy="1564200"/>
              <a:chOff x="1884600" y="1902600"/>
              <a:chExt cx="510120" cy="1564200"/>
            </a:xfrm>
          </p:grpSpPr>
          <p:sp>
            <p:nvSpPr>
              <p:cNvPr id="207" name=""/>
              <p:cNvSpPr/>
              <p:nvPr/>
            </p:nvSpPr>
            <p:spPr>
              <a:xfrm>
                <a:off x="1884600" y="2744280"/>
                <a:ext cx="51012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884600" y="1902600"/>
                <a:ext cx="51012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884600" y="2183040"/>
                <a:ext cx="51012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884600" y="2463480"/>
                <a:ext cx="51012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84600" y="3024720"/>
                <a:ext cx="510120" cy="44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4474440" y="1902600"/>
              <a:ext cx="548640" cy="1681560"/>
              <a:chOff x="4474440" y="1902600"/>
              <a:chExt cx="548640" cy="1681560"/>
            </a:xfrm>
          </p:grpSpPr>
          <p:sp>
            <p:nvSpPr>
              <p:cNvPr id="213" name=""/>
              <p:cNvSpPr/>
              <p:nvPr/>
            </p:nvSpPr>
            <p:spPr>
              <a:xfrm>
                <a:off x="4474440" y="2807280"/>
                <a:ext cx="548640" cy="4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474440" y="1902600"/>
                <a:ext cx="548640" cy="4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474440" y="2203920"/>
                <a:ext cx="548640" cy="4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474440" y="2505600"/>
                <a:ext cx="548640" cy="4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74440" y="3108960"/>
                <a:ext cx="548640" cy="475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924360" y="3716280"/>
                <a:ext cx="792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4932360" y="3716280"/>
                <a:ext cx="6476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ым цветом выделены зоны неопреде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8120" y="1676520"/>
            <a:ext cx="6858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1676520"/>
            <a:ext cx="6858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41480" y="265752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89560" y="2657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69440" y="2657520"/>
            <a:ext cx="52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87280" y="914400"/>
            <a:ext cx="201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ая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05520" y="91440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/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29160" y="914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325680" y="2133720"/>
            <a:ext cx="55800" cy="457200"/>
            <a:chOff x="3325680" y="2133720"/>
            <a:chExt cx="55800" cy="457200"/>
          </a:xfrm>
        </p:grpSpPr>
        <p:sp>
          <p:nvSpPr>
            <p:cNvPr id="239" name=""/>
            <p:cNvSpPr/>
            <p:nvPr/>
          </p:nvSpPr>
          <p:spPr>
            <a:xfrm>
              <a:off x="33526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3325680" y="2494800"/>
              <a:ext cx="5580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757840" y="2133720"/>
            <a:ext cx="55440" cy="457200"/>
            <a:chOff x="5757840" y="2133720"/>
            <a:chExt cx="55440" cy="457200"/>
          </a:xfrm>
        </p:grpSpPr>
        <p:sp>
          <p:nvSpPr>
            <p:cNvPr id="242" name=""/>
            <p:cNvSpPr/>
            <p:nvPr/>
          </p:nvSpPr>
          <p:spPr>
            <a:xfrm>
              <a:off x="57844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757840" y="2494800"/>
              <a:ext cx="5544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V="1">
            <a:off x="304812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7288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4100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0958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601600" y="2657520"/>
            <a:ext cx="52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стика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имеет место положительная автокорреляция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48120" y="1676520"/>
            <a:ext cx="6858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080" y="1676520"/>
            <a:ext cx="6858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41480" y="265752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89560" y="2657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69440" y="2657520"/>
            <a:ext cx="52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914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ая 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05520" y="914400"/>
            <a:ext cx="238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ицатель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/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29160" y="91440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325680" y="2133720"/>
            <a:ext cx="55800" cy="457200"/>
            <a:chOff x="3325680" y="2133720"/>
            <a:chExt cx="55800" cy="457200"/>
          </a:xfrm>
        </p:grpSpPr>
        <p:sp>
          <p:nvSpPr>
            <p:cNvPr id="269" name=""/>
            <p:cNvSpPr/>
            <p:nvPr/>
          </p:nvSpPr>
          <p:spPr>
            <a:xfrm>
              <a:off x="33526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325680" y="2494800"/>
              <a:ext cx="5580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5757840" y="2133720"/>
            <a:ext cx="55440" cy="457200"/>
            <a:chOff x="5757840" y="2133720"/>
            <a:chExt cx="55440" cy="457200"/>
          </a:xfrm>
        </p:grpSpPr>
        <p:sp>
          <p:nvSpPr>
            <p:cNvPr id="272" name=""/>
            <p:cNvSpPr/>
            <p:nvPr/>
          </p:nvSpPr>
          <p:spPr>
            <a:xfrm>
              <a:off x="57844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5757840" y="2494800"/>
              <a:ext cx="5544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 flipV="1">
            <a:off x="304812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37288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4100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0958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01600" y="2657520"/>
            <a:ext cx="52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09680" y="2532240"/>
            <a:ext cx="109800" cy="109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стика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гипотеза о положительной автокорреляции отвергаетс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8120" y="1676520"/>
            <a:ext cx="6858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410080" y="1676520"/>
            <a:ext cx="6858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41480" y="265752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89560" y="2657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69440" y="2657520"/>
            <a:ext cx="52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914400"/>
            <a:ext cx="2228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ая 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05520" y="914400"/>
            <a:ext cx="238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ицатель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/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29160" y="914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325680" y="2133720"/>
            <a:ext cx="55800" cy="457200"/>
            <a:chOff x="3325680" y="2133720"/>
            <a:chExt cx="55800" cy="457200"/>
          </a:xfrm>
        </p:grpSpPr>
        <p:sp>
          <p:nvSpPr>
            <p:cNvPr id="300" name=""/>
            <p:cNvSpPr/>
            <p:nvPr/>
          </p:nvSpPr>
          <p:spPr>
            <a:xfrm>
              <a:off x="33526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3325680" y="2494800"/>
              <a:ext cx="5580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757840" y="2133720"/>
            <a:ext cx="55440" cy="457200"/>
            <a:chOff x="5757840" y="2133720"/>
            <a:chExt cx="55440" cy="457200"/>
          </a:xfrm>
        </p:grpSpPr>
        <p:sp>
          <p:nvSpPr>
            <p:cNvPr id="303" name=""/>
            <p:cNvSpPr/>
            <p:nvPr/>
          </p:nvSpPr>
          <p:spPr>
            <a:xfrm>
              <a:off x="57844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5757840" y="2494800"/>
              <a:ext cx="5544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 flipV="1">
            <a:off x="304812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7288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4100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0958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601600" y="2657520"/>
            <a:ext cx="52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114800" y="2532240"/>
            <a:ext cx="109440" cy="109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стика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адает в зону между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GB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вывод сделать невозмож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048120" y="1676520"/>
            <a:ext cx="6858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410080" y="1676520"/>
            <a:ext cx="6858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41480" y="265752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589560" y="2657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69440" y="2657520"/>
            <a:ext cx="52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00000" y="914400"/>
            <a:ext cx="23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ая 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05520" y="914400"/>
            <a:ext cx="238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ицательна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/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29160" y="9144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325680" y="2133720"/>
            <a:ext cx="55800" cy="457200"/>
            <a:chOff x="3325680" y="2133720"/>
            <a:chExt cx="55800" cy="457200"/>
          </a:xfrm>
        </p:grpSpPr>
        <p:sp>
          <p:nvSpPr>
            <p:cNvPr id="331" name=""/>
            <p:cNvSpPr/>
            <p:nvPr/>
          </p:nvSpPr>
          <p:spPr>
            <a:xfrm>
              <a:off x="33526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3325680" y="2494800"/>
              <a:ext cx="5580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757840" y="2133720"/>
            <a:ext cx="55440" cy="457200"/>
            <a:chOff x="5757840" y="2133720"/>
            <a:chExt cx="55440" cy="457200"/>
          </a:xfrm>
        </p:grpSpPr>
        <p:sp>
          <p:nvSpPr>
            <p:cNvPr id="334" name=""/>
            <p:cNvSpPr/>
            <p:nvPr/>
          </p:nvSpPr>
          <p:spPr>
            <a:xfrm>
              <a:off x="57844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757840" y="2494800"/>
              <a:ext cx="5544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 flipV="1">
            <a:off x="304812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37288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54100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0958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601600" y="2657520"/>
            <a:ext cx="52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2532240"/>
            <a:ext cx="109440" cy="109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стика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1680" y="5157720"/>
            <a:ext cx="853272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ерка гипотезы о наличии автокорреляции остатков для регрессии с константой и двумя объясняющими факторами, оцененной по 45 наблюдениям при 5% уровне значимости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дим в таблице Дарбина – Уотсон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27280" y="1676520"/>
            <a:ext cx="3844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27560" y="1676520"/>
            <a:ext cx="38412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324240" y="265752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65960" y="2657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35272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9117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27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6116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2004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576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4360" y="765000"/>
            <a:ext cx="36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45,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2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5% leve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04920" y="5805360"/>
            <a:ext cx="8532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числяем границы второй зоны неопределен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527280" y="1676520"/>
            <a:ext cx="3844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27560" y="1676520"/>
            <a:ext cx="38412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324240" y="265752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65960" y="2657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5272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39117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227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6116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87692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33412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2004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6576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979640" y="364500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45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2, 5%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01680" y="5300640"/>
            <a:ext cx="853272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&lt; 1.43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гипотеза об отсутствии автокорреляции  отвергается в пользу гипотезы о положительной автокорреляци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527280" y="1676520"/>
            <a:ext cx="3844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27560" y="1676520"/>
            <a:ext cx="38412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324240" y="265752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65960" y="2657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35272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39117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227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6116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209680" y="2532240"/>
            <a:ext cx="109800" cy="109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576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340000" y="3429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45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2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%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1.43 &lt;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&lt; 1.62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вывод сделать невозмож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27280" y="1676520"/>
            <a:ext cx="3844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227560" y="1676520"/>
            <a:ext cx="38412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324240" y="265752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65960" y="2657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35272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V="1">
            <a:off x="39117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5227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6116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33920" y="2532240"/>
            <a:ext cx="109440" cy="109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004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6576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7692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33412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771640" y="350028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45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2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%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стика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мула для вычисления статистики Дарбина – Уотсон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 остаткам регресси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473280" y="762120"/>
                <a:ext cx="2197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1680" y="5788080"/>
            <a:ext cx="85327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1.62 &lt;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&lt; 2.38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гипотеза об отсутствии автокорреляции не отвергаетс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527280" y="1676520"/>
            <a:ext cx="3844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227560" y="1676520"/>
            <a:ext cx="38412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324240" y="265752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765960" y="2657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35272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39117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5227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56116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724280" y="2532240"/>
            <a:ext cx="109800" cy="109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2004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6576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7692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71640" y="3500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45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2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%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2.38 &lt;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&lt; 2.57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вывод сделать невозможно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527280" y="1676520"/>
            <a:ext cx="3844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227560" y="1676520"/>
            <a:ext cx="38412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324240" y="265752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65960" y="2657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35272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39117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5227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56116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334120" y="2532240"/>
            <a:ext cx="109440" cy="109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6576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87692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3412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771640" y="364500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45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2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5%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1680" y="5229360"/>
            <a:ext cx="85327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&gt; 2.57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гипотеза об отсутствии автокорреляции  отвергается в пользу гипотезы об отрицательной автокорреляци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27280" y="1676520"/>
            <a:ext cx="38448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227560" y="1676520"/>
            <a:ext cx="38412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324240" y="265752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765960" y="2657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35272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39117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5227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56116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791320" y="2532240"/>
            <a:ext cx="109440" cy="1094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2004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6576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692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3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33412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771640" y="342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45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2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5%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уровне значимост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1%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изменятся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208320" y="1676520"/>
            <a:ext cx="37476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565600" y="1676520"/>
            <a:ext cx="365400" cy="914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79720" y="265752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360960" y="2657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320832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58308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V="1">
            <a:off x="556560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593244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89548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35268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2578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715000" y="304812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7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411280" y="3573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45,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= 2, 1% leve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остатков линейной в логарифмах модели расходов на аренду жилья от дохода и относительных цен явно демонстрирует наличие положительной автокорреляци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719280" y="549360"/>
          <a:ext cx="770544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9280" y="549360"/>
                    <a:ext cx="770544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5326200" y="981000"/>
            <a:ext cx="1908000" cy="100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18960" y="1031760"/>
            <a:ext cx="3327480" cy="228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4920" y="4935600"/>
            <a:ext cx="3701880" cy="245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pendent Variable: LGHOUS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thod: Least Squares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mple: 1959 2003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d observations: 45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     Coefficient Std. Error t-Statistic  Prob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           0.005625   0.167903   0.033501   0.97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DPI         1.031918   0.006649   155.1976   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PRHOUS       -0.483421   0.041780  -11.57056   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-squared            0.998583    Mean dependent var 6.359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justed R-squared   0.998515    S.D. dependent var 0.4375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.E. of regression   0.016859    Akaike info criter-5.2635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squared resid    0.011937    Schwarz criterion -5.143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 likelihood       121.4304    F-statistic        14797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rbin-Watson stat   0.633113    Prob(F-statistic)  0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 Дарбина – Уотсона подтверждает наличие положительной автокорреля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932440" y="981000"/>
            <a:ext cx="401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313680" y="98100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848200" y="1371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05400" y="137160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64000" y="168120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= 45, </a:t>
            </a: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= 2, 1% lev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01680" y="836640"/>
            <a:ext cx="853272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истика Дарбина –Уотсона неприменима, ес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уравнении нет свободного чл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меется стохастический регрессор (например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-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змущения удовлетворяют авторегрессионной схеме не первого, а большего поряд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именимость статистики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ля больших выбо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араметр в Марковской схеме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3473280" y="762120"/>
                <a:ext cx="2197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848040" y="2935440"/>
                <a:ext cx="1447920" cy="34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стика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539640" y="4292640"/>
                <a:ext cx="230364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больших выбор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 автокорреляции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≈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ительная автокорреляция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ицательная автокорреляция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≈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680" y="5786280"/>
            <a:ext cx="8532720" cy="8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ие между значениями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3473280" y="762120"/>
                <a:ext cx="21974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t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5562720" y="3016080"/>
                <a:ext cx="144756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877080" y="3716280"/>
                <a:ext cx="799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6877080" y="4221000"/>
                <a:ext cx="799920" cy="27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6877080" y="4653000"/>
                <a:ext cx="799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стика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автокорреляци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ая автокорреляц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37"/>
              </a:spcBef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ицательная автокорреляц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ответствие между значениями статистики Дарбина – Уотсона и автокорреляцие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565600" y="3746520"/>
                <a:ext cx="800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565600" y="4203720"/>
                <a:ext cx="800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565600" y="4660920"/>
                <a:ext cx="800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91440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ожительная автокорреля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05520" y="914400"/>
            <a:ext cx="19051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рицательная автокорреляц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9160" y="914400"/>
            <a:ext cx="1904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автокорреляци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атистика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01680" y="189000"/>
            <a:ext cx="8532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гипотезы о наличии положительной автокорреляции первого по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740720" y="19890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2924280"/>
            <a:ext cx="639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403280" y="2133720"/>
            <a:ext cx="0" cy="79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572000" y="19890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418280" y="29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632720" y="29973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87280" y="29098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16000" y="1473120"/>
            <a:ext cx="20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ая автокорреля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29160" y="1413000"/>
            <a:ext cx="20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автокорреля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348000" y="2492280"/>
            <a:ext cx="55440" cy="457200"/>
            <a:chOff x="3348000" y="2492280"/>
            <a:chExt cx="55440" cy="457200"/>
          </a:xfrm>
        </p:grpSpPr>
        <p:sp>
          <p:nvSpPr>
            <p:cNvPr id="92" name=""/>
            <p:cNvSpPr/>
            <p:nvPr/>
          </p:nvSpPr>
          <p:spPr>
            <a:xfrm>
              <a:off x="3374640" y="249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348000" y="2853360"/>
              <a:ext cx="5544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132000" y="3092400"/>
            <a:ext cx="649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1280" y="3933720"/>
            <a:ext cx="624672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автокорреляц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gt; 0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ая автокорреляц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овая статисти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о: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&lt;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1" lang="ru-RU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рг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01680" y="189000"/>
            <a:ext cx="853272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верка гипотезы о наличии отрицательной автокорреляции первого по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740720" y="19890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924280"/>
            <a:ext cx="6399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403280" y="2133720"/>
            <a:ext cx="0" cy="79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572000" y="19890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18280" y="2909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32720" y="299736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290988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96000" y="147312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ая автокорреляц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29160" y="1413000"/>
            <a:ext cx="209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автокорреля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012000" y="2492280"/>
            <a:ext cx="55440" cy="457200"/>
            <a:chOff x="6012000" y="2492280"/>
            <a:chExt cx="55440" cy="457200"/>
          </a:xfrm>
        </p:grpSpPr>
        <p:sp>
          <p:nvSpPr>
            <p:cNvPr id="108" name=""/>
            <p:cNvSpPr/>
            <p:nvPr/>
          </p:nvSpPr>
          <p:spPr>
            <a:xfrm>
              <a:off x="6038640" y="24922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6012000" y="2853360"/>
              <a:ext cx="5544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5724360" y="2909880"/>
            <a:ext cx="79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3933720"/>
            <a:ext cx="6246720" cy="21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0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 автокорреляции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&lt; 0 (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рицательная автокорреляция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стовая статистик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авило: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 &gt; 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верг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680" y="4508640"/>
            <a:ext cx="8532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статистики Дарбина – Уотсона зависит не только от количества наблюдений и числа факторов, но и от конкретных значений матрицы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 для нахождени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существуе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16000" y="914400"/>
            <a:ext cx="20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ая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05520" y="91440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/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29160" y="914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325680" y="2133720"/>
            <a:ext cx="55800" cy="457200"/>
            <a:chOff x="3325680" y="2133720"/>
            <a:chExt cx="55800" cy="457200"/>
          </a:xfrm>
        </p:grpSpPr>
        <p:sp>
          <p:nvSpPr>
            <p:cNvPr id="126" name=""/>
            <p:cNvSpPr/>
            <p:nvPr/>
          </p:nvSpPr>
          <p:spPr>
            <a:xfrm>
              <a:off x="33526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325680" y="2494800"/>
              <a:ext cx="5580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757840" y="2133720"/>
            <a:ext cx="55440" cy="457200"/>
            <a:chOff x="5757840" y="2133720"/>
            <a:chExt cx="55440" cy="457200"/>
          </a:xfrm>
        </p:grpSpPr>
        <p:sp>
          <p:nvSpPr>
            <p:cNvPr id="129" name=""/>
            <p:cNvSpPr/>
            <p:nvPr/>
          </p:nvSpPr>
          <p:spPr>
            <a:xfrm>
              <a:off x="57844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5757840" y="2494800"/>
              <a:ext cx="5544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175200" y="265752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04840" y="2657520"/>
            <a:ext cx="57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статистики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1680" y="4508640"/>
            <a:ext cx="85327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рбин и Уотсон использовали статисти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L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мажорирующие статисти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снизу и сверху, распределение которых не зависит от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уществуют таблицы (Дарбина -  Уотсона)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квантилей этих статисти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769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0160" y="2590920"/>
            <a:ext cx="6399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3701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570560" y="16765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341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3452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6440" y="2657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6000" y="914400"/>
            <a:ext cx="20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ожительная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05520" y="914400"/>
            <a:ext cx="20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рицательная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/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629160" y="91440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т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/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325680" y="2133720"/>
            <a:ext cx="55800" cy="457200"/>
            <a:chOff x="3325680" y="2133720"/>
            <a:chExt cx="55800" cy="457200"/>
          </a:xfrm>
        </p:grpSpPr>
        <p:sp>
          <p:nvSpPr>
            <p:cNvPr id="148" name=""/>
            <p:cNvSpPr/>
            <p:nvPr/>
          </p:nvSpPr>
          <p:spPr>
            <a:xfrm>
              <a:off x="33526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3325680" y="2494800"/>
              <a:ext cx="5580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5757840" y="2133720"/>
            <a:ext cx="55440" cy="457200"/>
            <a:chOff x="5757840" y="2133720"/>
            <a:chExt cx="55440" cy="457200"/>
          </a:xfrm>
        </p:grpSpPr>
        <p:sp>
          <p:nvSpPr>
            <p:cNvPr id="151" name=""/>
            <p:cNvSpPr/>
            <p:nvPr/>
          </p:nvSpPr>
          <p:spPr>
            <a:xfrm>
              <a:off x="578448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757840" y="2494800"/>
              <a:ext cx="55440" cy="7308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144" y="0"/>
                  </a:moveTo>
                  <a:lnTo>
                    <a:pt x="288" y="288"/>
                  </a:lnTo>
                  <a:lnTo>
                    <a:pt x="0" y="28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3175200" y="265752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04840" y="2657520"/>
            <a:ext cx="570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crit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бенности статистики Дарбина - Уотсо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6T17:09:17Z</dcterms:modified>
  <cp:revision>86</cp:revision>
  <dc:subject/>
  <dc:title>No Slide Title</dc:title>
</cp:coreProperties>
</file>