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B5FE-49C8-426C-8C90-96DCEB950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D574-30D2-4B02-80CD-FEF48A0C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F0E6-82A9-4AD3-8A7C-5D5082254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D5BB-6834-4317-981A-B37A5A1A4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5DEC-C82E-46F6-98E6-B4AED70C0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6DC6-12EF-473E-9958-BA9F08FB7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481E-89EF-427E-A321-8598F0CEA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1A77-B91F-47AE-A60A-8D453458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1831-14CA-4379-A40E-6876FEC5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F4DA-371D-4C66-A1BB-3CC5F166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ED18-366C-441A-A867-EAA6ABF7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0C95-2B3B-4CFB-ADC6-7751C3AE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30A1-FA31-420E-A0D6-63207DB76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екция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.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280" y="1989000"/>
            <a:ext cx="780876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верка автокорреляции остатков в динамических моделя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18960" y="1461960"/>
            <a:ext cx="3316320" cy="238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318960"/>
            <a:ext cx="9144000" cy="932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371600" y="566640"/>
            <a:ext cx="291960" cy="41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10200" y="533520"/>
            <a:ext cx="763560" cy="41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914400" y="365040"/>
                <a:ext cx="21463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ρ</m:t>
                        </m:r>
                      </m:e>
                    </m:acc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s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338040" y="5365800"/>
            <a:ext cx="3656160" cy="245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55600" y="0"/>
            <a:ext cx="862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1680" y="455760"/>
            <a:ext cx="8532720" cy="58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028880"/>
                <a:tab algn="r" pos="1943280"/>
                <a:tab algn="r" pos="3657600"/>
                <a:tab algn="r" pos="4572000"/>
                <a:tab algn="r" pos="6515280"/>
                <a:tab algn="r" pos="7429680"/>
                <a:tab algn="r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r" pos="1028880"/>
                <a:tab algn="r" pos="1943280"/>
                <a:tab algn="r" pos="3657600"/>
                <a:tab algn="r" pos="4572000"/>
                <a:tab algn="r" pos="6515280"/>
                <a:tab algn="r" pos="7429680"/>
                <a:tab algn="r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28880"/>
                <a:tab algn="r" pos="1943280"/>
                <a:tab algn="r" pos="3657600"/>
                <a:tab algn="r" pos="4572000"/>
                <a:tab algn="r" pos="6515280"/>
                <a:tab algn="r" pos="7429680"/>
                <a:tab algn="r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pendent Variable: LGHOUS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28880"/>
                <a:tab algn="r" pos="1943280"/>
                <a:tab algn="r" pos="3657600"/>
                <a:tab algn="r" pos="4572000"/>
                <a:tab algn="r" pos="6515280"/>
                <a:tab algn="r" pos="7429680"/>
                <a:tab algn="r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ethod: Least Squares            Sample(adjusted): 1960 2003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28880"/>
                <a:tab algn="r" pos="1943280"/>
                <a:tab algn="r" pos="3657600"/>
                <a:tab algn="r" pos="4572000"/>
                <a:tab algn="r" pos="6515280"/>
                <a:tab algn="r" pos="7429680"/>
                <a:tab algn="r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uded observations: 44 after adjusting endpoints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28880"/>
                <a:tab algn="r" pos="1943280"/>
                <a:tab algn="r" pos="3657600"/>
                <a:tab algn="r" pos="4572000"/>
                <a:tab algn="r" pos="6515280"/>
                <a:tab algn="r" pos="7429680"/>
                <a:tab algn="r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28880"/>
                <a:tab algn="r" pos="1943280"/>
                <a:tab algn="r" pos="3657600"/>
                <a:tab algn="r" pos="4572000"/>
                <a:tab algn="r" pos="6515280"/>
                <a:tab algn="r" pos="7429680"/>
                <a:tab algn="r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riable      CoefficientStd. Errort-Statistic  Prob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28880"/>
                <a:tab algn="r" pos="1943280"/>
                <a:tab algn="r" pos="3657600"/>
                <a:tab algn="r" pos="4572000"/>
                <a:tab algn="r" pos="6515280"/>
                <a:tab algn="r" pos="7429680"/>
                <a:tab algn="r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28880"/>
                <a:tab algn="r" pos="1943280"/>
                <a:tab algn="r" pos="3657600"/>
                <a:tab algn="r" pos="4572000"/>
                <a:tab algn="r" pos="6515280"/>
                <a:tab algn="r" pos="7429680"/>
                <a:tab algn="r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           0.073957   0.062915   1.175499   0.24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28880"/>
                <a:tab algn="r" pos="1943280"/>
                <a:tab algn="r" pos="3657600"/>
                <a:tab algn="r" pos="4572000"/>
                <a:tab algn="r" pos="6515280"/>
                <a:tab algn="r" pos="7429680"/>
                <a:tab algn="r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GDPI         0.282935   0.046912   6.031246   0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28880"/>
                <a:tab algn="r" pos="1943280"/>
                <a:tab algn="r" pos="3657600"/>
                <a:tab algn="r" pos="4572000"/>
                <a:tab algn="r" pos="6515280"/>
                <a:tab algn="r" pos="7429680"/>
                <a:tab algn="r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GPRHOUS       -0.116949   0.027383  -4.270880   0.0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28880"/>
                <a:tab algn="r" pos="1943280"/>
                <a:tab algn="r" pos="3657600"/>
                <a:tab algn="r" pos="4572000"/>
                <a:tab algn="r" pos="6515280"/>
                <a:tab algn="r" pos="7429680"/>
                <a:tab algn="r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GHOUS(-1)       0.707242   0.044405   15.92699   0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28880"/>
                <a:tab algn="r" pos="1943280"/>
                <a:tab algn="r" pos="3657600"/>
                <a:tab algn="r" pos="4572000"/>
                <a:tab algn="r" pos="6515280"/>
                <a:tab algn="r" pos="7429680"/>
                <a:tab algn="r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28880"/>
                <a:tab algn="r" pos="1943280"/>
                <a:tab algn="r" pos="3657600"/>
                <a:tab algn="r" pos="4572000"/>
                <a:tab algn="r" pos="6515280"/>
                <a:tab algn="r" pos="7429680"/>
                <a:tab algn="r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-squared            0.999795    Mean dependent var 6.3790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28880"/>
                <a:tab algn="r" pos="1943280"/>
                <a:tab algn="r" pos="3657600"/>
                <a:tab algn="r" pos="4572000"/>
                <a:tab algn="r" pos="6515280"/>
                <a:tab algn="r" pos="7429680"/>
                <a:tab algn="r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justed R-squared   0.999780    S.D. dependent var 0.4218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28880"/>
                <a:tab algn="r" pos="1943280"/>
                <a:tab algn="r" pos="3657600"/>
                <a:tab algn="r" pos="4572000"/>
                <a:tab algn="r" pos="6515280"/>
                <a:tab algn="r" pos="7429680"/>
                <a:tab algn="r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.E. of regression   0.006257    Akaike info criter-7.2237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28880"/>
                <a:tab algn="r" pos="1943280"/>
                <a:tab algn="r" pos="3657600"/>
                <a:tab algn="r" pos="4572000"/>
                <a:tab algn="r" pos="6515280"/>
                <a:tab algn="r" pos="7429680"/>
                <a:tab algn="r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squared resid    0.001566    Schwarz criterion -7.0615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28880"/>
                <a:tab algn="r" pos="1943280"/>
                <a:tab algn="r" pos="3657600"/>
                <a:tab algn="r" pos="4572000"/>
                <a:tab algn="r" pos="6515280"/>
                <a:tab algn="r" pos="7429680"/>
                <a:tab algn="r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 likelihood       162.9216    F-statistic        65141.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28880"/>
                <a:tab algn="r" pos="1943280"/>
                <a:tab algn="r" pos="3657600"/>
                <a:tab algn="r" pos="4572000"/>
                <a:tab algn="r" pos="6515280"/>
                <a:tab algn="r" pos="7429680"/>
                <a:tab algn="r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urbin-Watson stat   1.810958    Prob(F-statistic)  0.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28880"/>
                <a:tab algn="r" pos="1943280"/>
                <a:tab algn="r" pos="3657600"/>
                <a:tab algn="r" pos="4572000"/>
                <a:tab algn="r" pos="6515280"/>
                <a:tab algn="r" pos="7429680"/>
                <a:tab algn="r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753000" y="358920"/>
                <a:ext cx="430524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5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20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2124000" y="4365720"/>
            <a:ext cx="4896000" cy="6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317680" y="4525920"/>
                <a:ext cx="4508640" cy="3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≃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1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55600" y="0"/>
            <a:ext cx="862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динамической мод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1680" y="5788080"/>
            <a:ext cx="85327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и регрессоров встречается стохастический (недетерминированный)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-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889360" y="838080"/>
                <a:ext cx="33652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971640" y="1895400"/>
                <a:ext cx="46735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Если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4</m:t>
                              </m:r>
                            </m:e>
                          </m:mr>
                        </m:m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то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</m:e>
                          </m:mr>
                          <m:mr>
                            <m:e>
                              <m:r>
                                <m:t xml:space="preserve">3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5600" y="0"/>
            <a:ext cx="862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рка автокорреляции остатков в динамических модел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3492360" y="3213000"/>
                <a:ext cx="17398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u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3" name=""/>
          <p:cNvSpPr/>
          <p:nvPr/>
        </p:nvSpPr>
        <p:spPr>
          <a:xfrm>
            <a:off x="301680" y="5373720"/>
            <a:ext cx="853272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этом случае статистика Дарбина – Уотсона не может быть использована для проверки гипотезы об отсутствии автокорреляции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132000" y="2205000"/>
                <a:ext cx="3365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940360" y="1125360"/>
            <a:ext cx="311040" cy="411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1125360"/>
            <a:ext cx="474840" cy="411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35280" y="1773360"/>
            <a:ext cx="311400" cy="41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1773360"/>
            <a:ext cx="360360" cy="41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56000" y="2492280"/>
            <a:ext cx="484200" cy="41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84720" y="2565360"/>
            <a:ext cx="493920" cy="41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5600" y="0"/>
            <a:ext cx="862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рка автокорреляции остатков в динамических модел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3701880" y="1844640"/>
                <a:ext cx="1740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u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301680" y="4941720"/>
            <a:ext cx="8532720" cy="16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а неприменимости статистики Дарбина – Уотсона заключается в наличии связи межд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-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озмущения удовлетворяют марковской схем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610000" y="2565360"/>
                <a:ext cx="39240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889360" y="1125360"/>
                <a:ext cx="33652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 flipV="1">
            <a:off x="4859280" y="148392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5651280" y="1557360"/>
            <a:ext cx="618840" cy="9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5600" y="0"/>
            <a:ext cx="862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рка автокорреляции остатков в динамических модел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701880" y="1523880"/>
                <a:ext cx="1740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u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304920" y="5661000"/>
            <a:ext cx="85327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наличии в уравнении регрессии лаговых значений переменно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проверки гипотез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 отсутствии автокорреляци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уетс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тистик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рбина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3498840" y="4365720"/>
                <a:ext cx="21463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ρ</m:t>
                        </m:r>
                      </m:e>
                    </m:acc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s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2610000" y="2209680"/>
                <a:ext cx="3924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2889360" y="838080"/>
                <a:ext cx="33652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340000" y="3068640"/>
                <a:ext cx="25923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ρ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5600" y="0"/>
            <a:ext cx="862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рка автокорреляции остатков в динамических модел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701880" y="1523880"/>
                <a:ext cx="1740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u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301680" y="5788080"/>
            <a:ext cx="85327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тистика Дарбина имеет стандартное нормальное распредел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486240" y="2997360"/>
                <a:ext cx="21463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ρ</m:t>
                        </m:r>
                      </m:e>
                    </m:acc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s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610000" y="2209680"/>
                <a:ext cx="3924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2889360" y="838080"/>
                <a:ext cx="33652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5600" y="0"/>
            <a:ext cx="862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рка автокорреляции остатков в динамических модел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2889360" y="838080"/>
                <a:ext cx="33652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701880" y="1523880"/>
                <a:ext cx="1740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u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610000" y="2209680"/>
                <a:ext cx="39240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301680" y="5786280"/>
            <a:ext cx="8532720" cy="8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оценки параметра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обычно используется рассчитанное значение статистики Дарбина – Уотсо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3486240" y="2997360"/>
                <a:ext cx="21463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ρ</m:t>
                        </m:r>
                      </m:e>
                    </m:acc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s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3886200" y="4336920"/>
                <a:ext cx="132084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≈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809880" y="4876920"/>
                <a:ext cx="15242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ρ</m:t>
                        </m:r>
                      </m:e>
                    </m:acc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5600" y="0"/>
            <a:ext cx="862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рка автокорреляции остатков в динамических моделя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1680" y="2133720"/>
            <a:ext cx="8532720" cy="44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знаменатель в дроби меньше 0, то применяется альтернативный тест Дарби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иваем коэффициенты уравнения регресс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Сохраняем остатк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цениваем коэффициенты уравнения регресс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3) С помощью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еста проверяем значимость коэффициента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коэффициент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значим, то имеет место автокорреляц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268360" y="1052640"/>
                <a:ext cx="21463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ρ</m:t>
                        </m:r>
                      </m:e>
                    </m:acc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s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755640" y="3429000"/>
                <a:ext cx="33656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660240" y="4724280"/>
                <a:ext cx="41277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αe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18960" y="1461960"/>
            <a:ext cx="3316320" cy="238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1680" y="455760"/>
            <a:ext cx="8532720" cy="58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r" pos="1028880"/>
                <a:tab algn="r" pos="1943280"/>
                <a:tab algn="r" pos="3657600"/>
                <a:tab algn="r" pos="4572000"/>
                <a:tab algn="r" pos="6515280"/>
                <a:tab algn="r" pos="7429680"/>
                <a:tab algn="r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r" pos="1028880"/>
                <a:tab algn="r" pos="1943280"/>
                <a:tab algn="r" pos="3657600"/>
                <a:tab algn="r" pos="4572000"/>
                <a:tab algn="r" pos="6515280"/>
                <a:tab algn="r" pos="7429680"/>
                <a:tab algn="r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28880"/>
                <a:tab algn="r" pos="1943280"/>
                <a:tab algn="r" pos="3657600"/>
                <a:tab algn="r" pos="4572000"/>
                <a:tab algn="r" pos="6515280"/>
                <a:tab algn="r" pos="7429680"/>
                <a:tab algn="r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pendent Variable: LGHOUS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28880"/>
                <a:tab algn="r" pos="1943280"/>
                <a:tab algn="r" pos="3657600"/>
                <a:tab algn="r" pos="4572000"/>
                <a:tab algn="r" pos="6515280"/>
                <a:tab algn="r" pos="7429680"/>
                <a:tab algn="r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ethod: Least Squares            Sample(adjusted): 1960 2003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28880"/>
                <a:tab algn="r" pos="1943280"/>
                <a:tab algn="r" pos="3657600"/>
                <a:tab algn="r" pos="4572000"/>
                <a:tab algn="r" pos="6515280"/>
                <a:tab algn="r" pos="7429680"/>
                <a:tab algn="r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uded observations: 44 after adjusting endpoints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28880"/>
                <a:tab algn="r" pos="1943280"/>
                <a:tab algn="r" pos="3657600"/>
                <a:tab algn="r" pos="4572000"/>
                <a:tab algn="r" pos="6515280"/>
                <a:tab algn="r" pos="7429680"/>
                <a:tab algn="r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28880"/>
                <a:tab algn="r" pos="1943280"/>
                <a:tab algn="r" pos="3657600"/>
                <a:tab algn="r" pos="4572000"/>
                <a:tab algn="r" pos="6515280"/>
                <a:tab algn="r" pos="7429680"/>
                <a:tab algn="r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riable      CoefficientStd. Errort-Statistic  Prob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28880"/>
                <a:tab algn="r" pos="1943280"/>
                <a:tab algn="r" pos="3657600"/>
                <a:tab algn="r" pos="4572000"/>
                <a:tab algn="r" pos="6515280"/>
                <a:tab algn="r" pos="7429680"/>
                <a:tab algn="r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28880"/>
                <a:tab algn="r" pos="1943280"/>
                <a:tab algn="r" pos="3657600"/>
                <a:tab algn="r" pos="4572000"/>
                <a:tab algn="r" pos="6515280"/>
                <a:tab algn="r" pos="7429680"/>
                <a:tab algn="r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           0.073957   0.062915   1.175499   0.24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28880"/>
                <a:tab algn="r" pos="1943280"/>
                <a:tab algn="r" pos="3657600"/>
                <a:tab algn="r" pos="4572000"/>
                <a:tab algn="r" pos="6515280"/>
                <a:tab algn="r" pos="7429680"/>
                <a:tab algn="r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GDPI         0.282935   0.046912   6.031246   0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28880"/>
                <a:tab algn="r" pos="1943280"/>
                <a:tab algn="r" pos="3657600"/>
                <a:tab algn="r" pos="4572000"/>
                <a:tab algn="r" pos="6515280"/>
                <a:tab algn="r" pos="7429680"/>
                <a:tab algn="r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GPRHOUS       -0.116949   0.027383  -4.270880   0.0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28880"/>
                <a:tab algn="r" pos="1943280"/>
                <a:tab algn="r" pos="3657600"/>
                <a:tab algn="r" pos="4572000"/>
                <a:tab algn="r" pos="6515280"/>
                <a:tab algn="r" pos="7429680"/>
                <a:tab algn="r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GHOUS(-1)       0.707242   0.044405   15.92699   0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28880"/>
                <a:tab algn="r" pos="1943280"/>
                <a:tab algn="r" pos="3657600"/>
                <a:tab algn="r" pos="4572000"/>
                <a:tab algn="r" pos="6515280"/>
                <a:tab algn="r" pos="7429680"/>
                <a:tab algn="r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28880"/>
                <a:tab algn="r" pos="1943280"/>
                <a:tab algn="r" pos="3657600"/>
                <a:tab algn="r" pos="4572000"/>
                <a:tab algn="r" pos="6515280"/>
                <a:tab algn="r" pos="7429680"/>
                <a:tab algn="r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-squared            0.999795    Mean dependent var 6.3790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28880"/>
                <a:tab algn="r" pos="1943280"/>
                <a:tab algn="r" pos="3657600"/>
                <a:tab algn="r" pos="4572000"/>
                <a:tab algn="r" pos="6515280"/>
                <a:tab algn="r" pos="7429680"/>
                <a:tab algn="r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justed R-squared   0.999780    S.D. dependent var 0.4218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28880"/>
                <a:tab algn="r" pos="1943280"/>
                <a:tab algn="r" pos="3657600"/>
                <a:tab algn="r" pos="4572000"/>
                <a:tab algn="r" pos="6515280"/>
                <a:tab algn="r" pos="7429680"/>
                <a:tab algn="r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.E. of regression   0.006257    Akaike info criter-7.2237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28880"/>
                <a:tab algn="r" pos="1943280"/>
                <a:tab algn="r" pos="3657600"/>
                <a:tab algn="r" pos="4572000"/>
                <a:tab algn="r" pos="6515280"/>
                <a:tab algn="r" pos="7429680"/>
                <a:tab algn="r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squared resid    0.001566    Schwarz criterion -7.0615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28880"/>
                <a:tab algn="r" pos="1943280"/>
                <a:tab algn="r" pos="3657600"/>
                <a:tab algn="r" pos="4572000"/>
                <a:tab algn="r" pos="6515280"/>
                <a:tab algn="r" pos="7429680"/>
                <a:tab algn="r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 likelihood       162.9216    F-statistic        65141.7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28880"/>
                <a:tab algn="r" pos="1943280"/>
                <a:tab algn="r" pos="3657600"/>
                <a:tab algn="r" pos="4572000"/>
                <a:tab algn="r" pos="6515280"/>
                <a:tab algn="r" pos="7429680"/>
                <a:tab algn="r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urbin-Watson stat   1.810958    Prob(F-statistic)  0.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1028880"/>
                <a:tab algn="r" pos="1943280"/>
                <a:tab algn="r" pos="3657600"/>
                <a:tab algn="r" pos="4572000"/>
                <a:tab algn="r" pos="6515280"/>
                <a:tab algn="r" pos="7429680"/>
                <a:tab algn="r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5600" y="0"/>
            <a:ext cx="862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18960"/>
            <a:ext cx="9144000" cy="932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753000" y="358920"/>
                <a:ext cx="430524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95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  <m:r>
                              <m:t xml:space="preserve">×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20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914400" y="365040"/>
                <a:ext cx="21463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ρ</m:t>
                        </m:r>
                      </m:e>
                    </m:acc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ns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)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9T13:24:56Z</dcterms:created>
  <dc:creator>Thomas Dougherty</dc:creator>
  <dc:description/>
  <dc:language>en-US</dc:language>
  <cp:lastModifiedBy>Demidov</cp:lastModifiedBy>
  <dcterms:modified xsi:type="dcterms:W3CDTF">2009-01-26T17:12:23Z</dcterms:modified>
  <cp:revision>69</cp:revision>
  <dc:subject/>
  <dc:title>No Slide Title</dc:title>
</cp:coreProperties>
</file>