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CA9E-BD1F-456A-82B6-AD723A13D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606A-9443-4473-A107-7BA9A09A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8E0B-5E7A-4963-8B35-E499BB382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69B-785E-493F-BC1B-C2C1A9B9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AEC8-6FC8-46A6-B4BB-4AD3CD5A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550C-7097-4B31-8423-65F5C4A0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88D-7C92-4F86-B236-B72EFB37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7B11-7A1F-4637-8C41-F3149C4C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8EA-CE31-404F-8DD3-DBA35807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49CB-4FE2-43EE-818A-EFA54A46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2D6D-EB2E-426F-AB7E-23E2F3D1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4CF4-58AC-4A72-956E-BFECCD2F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C332-62E3-4EA4-891F-80186EDAB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явление автокорреляции возмущений более высокого, чем первого, поряд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процедуре Кокрена – Оркута не сходимости, оценки параметр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«скачут», то это может объясняться автокорреляцией более высокого, чем первого, поряд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Бройша - Годф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1680" y="2565360"/>
            <a:ext cx="853272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втокорреляции возмущ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 место автокорреляция возмущений поряд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258920" y="1341360"/>
                <a:ext cx="237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Бройша - Годф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3141720"/>
            <a:ext cx="853272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GB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1258920" y="1341360"/>
                <a:ext cx="237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900000" y="2060640"/>
                <a:ext cx="50403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826920" y="3465360"/>
                <a:ext cx="39531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060560" y="4275000"/>
                <a:ext cx="39160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4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7800" y="0"/>
            <a:ext cx="8528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ьное описание теста Бройша - Годфр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680" y="3500280"/>
            <a:ext cx="853272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1258920" y="1341360"/>
                <a:ext cx="237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574560" y="765000"/>
            <a:ext cx="799308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ются параметры уравнения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яются остат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ются параметры уравнения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Сохраня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последней оцененной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Тестовая статистика                                       имеет распределение «хи – квадрат» с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епенями своб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) Если                                   при выбранном уровне значимост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то гипотез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отверг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14440" y="2708280"/>
                <a:ext cx="7037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924360" y="4076640"/>
                <a:ext cx="187164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979640" y="5013360"/>
                <a:ext cx="17193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gt;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8T09:57:23Z</dcterms:modified>
  <cp:revision>99</cp:revision>
  <dc:subject/>
  <dc:title>No Slide Title</dc:title>
</cp:coreProperties>
</file>