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6BA5-6989-4B06-AACF-A182ADB4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7C48-F70F-45E3-8C57-506665D4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F895-9067-40D1-9D4D-C9038AD5C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3E29-EDB0-40A4-9630-155C07224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6B2D-C07B-49DE-B83C-386989E3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CB8B-8132-4C55-A16D-00BE72408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E629-0BD5-4E05-A10C-D16E7A2D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D6B8-C6DE-4FD5-8912-01D01A08A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486-2574-4549-A100-F36767CF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C6AA-9950-4796-84E3-80A0D1B6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6768-E374-4D8E-8576-49D6C5FF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C45F-45CE-4448-9B83-356DA836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3A31-F894-4026-99A4-26871D610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Лекция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.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280" y="1989000"/>
            <a:ext cx="78087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втокорреля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чины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549360"/>
            <a:ext cx="853272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ертность экономических показате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шибки спецификации модели, заключающиеся в невключении в модель существенных переменны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bweb effect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паутинообразный эффект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Манипулирование данными». Сглаживание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ствия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836640"/>
            <a:ext cx="8532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тя оценки МНК коэффициентов регрессии останутся несмещенными, они уж не будут эффективны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и МНК для стандартных отклонений коэффициентов регрессии будут смещенными, чаще всего вниз, т.е будут заниженны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исти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будут неадекватными. Следствием заниженности оценок стандартных отклонений коэффициентов является завышенность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атисти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явление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836640"/>
            <a:ext cx="8532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ы выявления автокорреляции первого поряд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изуальны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использованием теста сер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 использованием статистики Дарбина - Уотсо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ьный способ выявления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836640"/>
            <a:ext cx="85327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особы выявления автокорреляции первого поряд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иваем коэффициенты уравнения регрессии с помощью МНК и сохраняем остатк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t = 1,…,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ая              отрицательная            нет автокорреля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корреляция             автокорреляц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95280" y="2599920"/>
            <a:ext cx="2447640" cy="1656000"/>
            <a:chOff x="395280" y="2599920"/>
            <a:chExt cx="2447640" cy="1656000"/>
          </a:xfrm>
        </p:grpSpPr>
        <p:sp>
          <p:nvSpPr>
            <p:cNvPr id="120" name=""/>
            <p:cNvSpPr/>
            <p:nvPr/>
          </p:nvSpPr>
          <p:spPr>
            <a:xfrm>
              <a:off x="395280" y="425592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95280" y="259992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492360" y="2491920"/>
            <a:ext cx="2159280" cy="1800720"/>
            <a:chOff x="3492360" y="2491920"/>
            <a:chExt cx="2159280" cy="1800720"/>
          </a:xfrm>
        </p:grpSpPr>
        <p:sp>
          <p:nvSpPr>
            <p:cNvPr id="123" name=""/>
            <p:cNvSpPr/>
            <p:nvPr/>
          </p:nvSpPr>
          <p:spPr>
            <a:xfrm>
              <a:off x="3492360" y="4292640"/>
              <a:ext cx="215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492360" y="2491920"/>
              <a:ext cx="0" cy="180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156360" y="2599920"/>
            <a:ext cx="2160720" cy="1656000"/>
            <a:chOff x="6156360" y="2599920"/>
            <a:chExt cx="2160720" cy="1656000"/>
          </a:xfrm>
        </p:grpSpPr>
        <p:sp>
          <p:nvSpPr>
            <p:cNvPr id="126" name=""/>
            <p:cNvSpPr/>
            <p:nvPr/>
          </p:nvSpPr>
          <p:spPr>
            <a:xfrm>
              <a:off x="6156360" y="4255920"/>
              <a:ext cx="216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6156360" y="2599920"/>
              <a:ext cx="0" cy="165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468360" y="242100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635280" y="2421000"/>
                <a:ext cx="385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6300720" y="2276640"/>
                <a:ext cx="385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556000" y="4437000"/>
                <a:ext cx="504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364000" y="4437000"/>
                <a:ext cx="50508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956720" y="4292640"/>
                <a:ext cx="50472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826920" y="314172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116000" y="335772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611280" y="342900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58920" y="364500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1476360" y="3789360"/>
                <a:ext cx="14436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1908000" y="443700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124000" y="465300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68360" y="371628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619280" y="393372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411280" y="4437000"/>
                <a:ext cx="14292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484360" y="4076640"/>
                <a:ext cx="503280" cy="1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564000" y="3789360"/>
                <a:ext cx="14436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851280" y="458136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5219640" y="458136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4211640" y="306864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4572000" y="4432320"/>
                <a:ext cx="14436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4932360" y="364500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5580000" y="328788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227640" y="378936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6516720" y="393372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804000" y="443700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7020000" y="393372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7380360" y="450864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7596360" y="465300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7740720" y="414972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8028000" y="400536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ьный способ выявления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067280" y="2509560"/>
            <a:ext cx="1584360" cy="1856160"/>
            <a:chOff x="4067280" y="2509560"/>
            <a:chExt cx="1584360" cy="1856160"/>
          </a:xfrm>
        </p:grpSpPr>
        <p:sp>
          <p:nvSpPr>
            <p:cNvPr id="164" name=""/>
            <p:cNvSpPr/>
            <p:nvPr/>
          </p:nvSpPr>
          <p:spPr>
            <a:xfrm>
              <a:off x="4067280" y="43657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067280" y="2509560"/>
              <a:ext cx="0" cy="18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516720" y="2599920"/>
            <a:ext cx="1511280" cy="1692720"/>
            <a:chOff x="6516720" y="2599920"/>
            <a:chExt cx="1511280" cy="1692720"/>
          </a:xfrm>
        </p:grpSpPr>
        <p:sp>
          <p:nvSpPr>
            <p:cNvPr id="167" name=""/>
            <p:cNvSpPr/>
            <p:nvPr/>
          </p:nvSpPr>
          <p:spPr>
            <a:xfrm>
              <a:off x="6516720" y="429264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516720" y="2599920"/>
              <a:ext cx="0" cy="16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900000" y="2492280"/>
                <a:ext cx="503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186080" y="2492280"/>
                <a:ext cx="3859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6300720" y="2276640"/>
                <a:ext cx="3859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195640" y="4365720"/>
                <a:ext cx="503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39640" y="443700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187280" y="386064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971640" y="393372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258920" y="364500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476360" y="3789360"/>
                <a:ext cx="14436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68360" y="465300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55640" y="443700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116000" y="414972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116000" y="458136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611280" y="4076640"/>
                <a:ext cx="14292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403280" y="3573360"/>
                <a:ext cx="503280" cy="1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635280" y="3716280"/>
                <a:ext cx="14472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140360" y="407664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4067280" y="450864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3780000" y="407664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427640" y="4653000"/>
                <a:ext cx="14436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3924360" y="386064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3851280" y="436572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6227640" y="378936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6516720" y="393372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804000" y="443700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020000" y="393372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380360" y="450864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596360" y="465300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740720" y="414972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8028000" y="400536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5435640" y="4365720"/>
                <a:ext cx="503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7885080" y="4365720"/>
                <a:ext cx="503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3924360" y="443700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4430880" y="458136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067280" y="429264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284720" y="450864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4572000" y="479736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206" name=""/>
          <p:cNvGrpSpPr/>
          <p:nvPr/>
        </p:nvGrpSpPr>
        <p:grpSpPr>
          <a:xfrm>
            <a:off x="304920" y="765000"/>
            <a:ext cx="8532720" cy="4464000"/>
            <a:chOff x="304920" y="765000"/>
            <a:chExt cx="8532720" cy="4464000"/>
          </a:xfrm>
        </p:grpSpPr>
        <p:sp>
          <p:nvSpPr>
            <p:cNvPr id="207" name=""/>
            <p:cNvSpPr/>
            <p:nvPr/>
          </p:nvSpPr>
          <p:spPr>
            <a:xfrm>
              <a:off x="304920" y="765000"/>
              <a:ext cx="8532720" cy="446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пособы выявления автокорреляции первого порядка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Оцениваем коэффициенты уравнения регрессии с помощью МНК и сохраняем остатки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t = 1,…,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ложительная              отрицательная            нет автокорреляции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автокорреляция             автокорреляци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9640" y="4294080"/>
              <a:ext cx="19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900000" y="2636640"/>
              <a:ext cx="0" cy="19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зуальный способ выявления автокорреля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жительная      отрицательная       нет автокорреля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корреляция    автокорреля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971640" y="2637000"/>
                <a:ext cx="50328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390920" y="2637000"/>
                <a:ext cx="360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7093080" y="2565360"/>
                <a:ext cx="3855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195640" y="4365720"/>
                <a:ext cx="503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39640" y="443700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1187280" y="386064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971640" y="393372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1258920" y="364500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476360" y="3789360"/>
                <a:ext cx="144360" cy="14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468360" y="465300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755640" y="443700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16000" y="414972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900000" y="429264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611280" y="4076640"/>
                <a:ext cx="142920" cy="1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1403280" y="3573360"/>
                <a:ext cx="503280" cy="1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95640" y="407664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3780000" y="407664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4498920" y="4724280"/>
                <a:ext cx="144360" cy="1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3924360" y="386064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635280" y="371628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588000" y="414972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516720" y="393372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6804000" y="443700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7020000" y="393372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804000" y="400536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6948360" y="436572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6372360" y="414972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7020000" y="414972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435640" y="4365720"/>
                <a:ext cx="503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7885080" y="4365720"/>
                <a:ext cx="5032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4140360" y="400536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788000" y="472428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4067280" y="429264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284720" y="450864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572000" y="479736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 flipV="1">
            <a:off x="900000" y="292428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429264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356000" y="429264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572000" y="450864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 rot="18850200">
            <a:off x="-29880" y="3782520"/>
            <a:ext cx="2160360" cy="588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24000" y="4581360"/>
                <a:ext cx="502920" cy="1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1547640" y="3367080"/>
                <a:ext cx="503280" cy="1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 flipV="1">
            <a:off x="6804000" y="278100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429264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 rot="14005200">
            <a:off x="3169800" y="4018680"/>
            <a:ext cx="2197080" cy="642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4788000" y="5013360"/>
                <a:ext cx="14112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780000" y="357336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0" name=""/>
          <p:cNvSpPr/>
          <p:nvPr/>
        </p:nvSpPr>
        <p:spPr>
          <a:xfrm flipV="1">
            <a:off x="4284720" y="29239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724360" y="429264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6443640" y="443700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7093080" y="443700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6588000" y="4581360"/>
                <a:ext cx="14148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6588000" y="4365720"/>
                <a:ext cx="141480" cy="14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6877080" y="4581360"/>
                <a:ext cx="141120" cy="14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орреля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корреляция – явление, встречающееся в основном для временных рядов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4360" y="611280"/>
          <a:ext cx="7761240" cy="47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11280"/>
                    <a:ext cx="776124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 rot="20375400">
            <a:off x="6477120" y="1185840"/>
            <a:ext cx="1463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685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77320" y="51195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орреля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1680" y="5788080"/>
            <a:ext cx="853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 автокорреляции нарушается условие теоремы Гаусса – Маркова о некоррелированности возмущений для различных моментов времен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84360" y="611280"/>
          <a:ext cx="7761240" cy="47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11280"/>
                    <a:ext cx="776124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 rot="20375400">
            <a:off x="6477120" y="1185840"/>
            <a:ext cx="1463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85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077320" y="51195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орреля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1680" y="5229360"/>
            <a:ext cx="8532720" cy="14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анном случае в основном после положительных остатков вновь следуют положительные, а после отрицательных вновь следуют отрицательные. Смена знаков остатков происходит редко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пример положительной автокорреляци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611280"/>
          <a:ext cx="7761240" cy="47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11280"/>
                    <a:ext cx="776124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457200" y="685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51195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20375400">
            <a:off x="6477120" y="1185840"/>
            <a:ext cx="1463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орреля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1680" y="5788080"/>
            <a:ext cx="853272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данном случае после положительных остатков чаще всего следуют отрицательные и наоборот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Это пример отрицательной автокорреляци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6858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611280"/>
          <a:ext cx="7761240" cy="477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611280"/>
                    <a:ext cx="7761240" cy="477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8077320" y="51195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0375400">
            <a:off x="6477120" y="1185840"/>
            <a:ext cx="146376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(1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ε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i.i.d.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ррелированные при различных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1,…,T,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динаково распределенные случайные величины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арковская схе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орреля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384720" y="762120"/>
                <a:ext cx="237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763640" y="1557360"/>
                <a:ext cx="1739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1680" y="4508640"/>
            <a:ext cx="8532720" cy="21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ворят, что возмущения удовлетворяют авторегрессионной схеме первого порядка (сокращенно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R(1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), если они удовлетворяют вышеуказанному соотношению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егрессия – зависимость от собственных предыдущих знач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79280" y="3284640"/>
                <a:ext cx="4032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ρ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корреляция первого поряд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AR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втокорреляция пятого порядк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 AR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корреляц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695760" y="2133720"/>
                <a:ext cx="17398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523880" y="3505320"/>
                <a:ext cx="60325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3384720" y="762120"/>
                <a:ext cx="2374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920" y="1022400"/>
            <a:ext cx="3344760" cy="245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pendent Variable: LGHOUS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ethod: Least Squares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ample: 1959 2003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cluded observations: 45 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ariable      Coefficient Std. Error t-Statistic  Prob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           0.005625   0.167903   0.033501   0.97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DPI         1.031918   0.006649   155.1976   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GPRHOUS       -0.483421   0.041780  -11.57056   0.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-squared            0.998583    Mean dependent var 6.35933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djusted R-squared   0.998515    S.D. dependent var 0.4375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.E. of regression   0.016859    Akaike info criter-5.26357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um squared resid    0.011937    Schwarz criterion -5.143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 likelihood       121.4304    F-statistic        14797.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urbin-Watson stat   0.633113    Prob(F-statistic)  0.00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ена линейная в логарифмах зависимость расходов на жилье  от располагаемого дохода и цен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01680" y="455760"/>
            <a:ext cx="8532720" cy="60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748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1680" y="0"/>
            <a:ext cx="8528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683560" y="655308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3366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1680" y="5788080"/>
            <a:ext cx="85327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рафик остатков регрессии позволяет заподозрить наличие положительной автокорреляции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682560" y="549360"/>
          <a:ext cx="77058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2560" y="549360"/>
                    <a:ext cx="77058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9T13:24:56Z</dcterms:created>
  <dc:creator>Thomas Dougherty</dc:creator>
  <dc:description/>
  <dc:language>en-US</dc:language>
  <cp:lastModifiedBy>Demidov</cp:lastModifiedBy>
  <dcterms:modified xsi:type="dcterms:W3CDTF">2009-01-27T06:02:15Z</dcterms:modified>
  <cp:revision>73</cp:revision>
  <dc:subject/>
  <dc:title>No Slide Title</dc:title>
</cp:coreProperties>
</file>