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1F0F-6A3A-49A3-8E8F-7C106FB90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26ED-6A8D-40FE-97CF-2F483F262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6ED-3521-4857-9373-1E304A71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04E4-EDEA-4608-99C2-F920EDBD3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9A25-1818-4039-89B0-49BA4D88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CE97-183D-4E29-B00A-DA06BA356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0B4F-3C62-4C2C-B0FE-05D56A9B9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0ADB-E79F-4294-B475-94B31E56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3484-7910-4001-BF37-9B9F20DD6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22F-42F5-4F75-9012-56D917D0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408-F5D4-4595-81B3-74B832015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8B34-AF0E-4070-85AC-F8EABC27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075C-6E2A-4464-B311-722105010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анализа временных рядов в пакете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ATA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ение графика оста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620640"/>
            <a:ext cx="806436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хранить остатки регрессии можно с помощью коман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dict res, res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роить график остатков можно с помощью команд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 re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700280"/>
            <a:ext cx="806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55640" y="2637000"/>
            <a:ext cx="705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5640" y="2060640"/>
            <a:ext cx="806436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uller  res,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ocons  re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ckey-Fulle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est for unit root                   Number of obs   =        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est         1% Critical       5% Critical      10%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atistic           Value             Value            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Z(t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3.779            -2.605            -1.950            -1.6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.res       Coef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Std. Err.      t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&gt;t     [95% Conf. 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1.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.2753123   .0728518    -3.78   0.000    -.4201369   -.13048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1603440"/>
            <a:ext cx="806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763560"/>
            <a:ext cx="799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а для проведения теста Дики и Фуллера (без константы и тренда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fuller  res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nocons  re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484280"/>
            <a:ext cx="8064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uller   dividends, trend re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ckey-Fuller test for unit root                   Number of obs   =        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est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1% Critical       5% Critical      10%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atistic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Value             Value            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Z(t) -2.639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-4.069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.463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3.1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Kinnon approximate p-value for Z(t) = 0.26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.dividends        Coef.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d. Err.      t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&gt;t     [95% Conf. 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vid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1.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.0632267   .0239544    -2.64   0.010    -.1108625   -.01559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trend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.112616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.0358928     3.14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02     .0412393    .18399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cons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.6779097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3739169     1.81   0.073    -.0656651    1.4214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763560"/>
            <a:ext cx="81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теста Дики и Фуллера для ря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n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628640"/>
            <a:ext cx="806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uller   d.dividends, trend re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ckey-Fuller test for unit root                   Number of obs   =        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est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1% Critical       5% Critical      10%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atistic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Value                Value            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Z(t)             -3.902            -4.071            -3.464            -3.1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Kinnon approximate p-value for Z(t) = 0.0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2.dividends       Coef.   Std. Err.       t       P&gt;t     [95% Conf. 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.dividend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1.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-.314085   .0804892    -3.90   0.000    -.4741748   -.15399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trend           .0043526   .0058159     0.75   0.456     -.007215    .01592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cons            .2371742   .2802646     0.85   0.400    -.3202608    .79460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1603440"/>
            <a:ext cx="806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76356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теста Дики и Фуллера для первых разностей ря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iden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5640" y="1484280"/>
            <a:ext cx="806436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uller    profits, trend re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ckey-Fuller test for unit root                   Number of obs   =        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est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1% Critical       5% Critical      10%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atistic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alue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Value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Z(t)             -1.715            -4.069            -3.463            -3.1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Kinnon approximate p-value for Z(t) = 0.74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.profits          Coef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Std. Err.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t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&gt;t     [95% Conf. 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rof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1.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.0658814   .0384211    -1.71   0.090     -.142286    .0105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trend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.0835008   .0731167     1.14   0.257    -.0618998    .22890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cons       6.605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050947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16   0.033     .5378582    12.672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03440"/>
            <a:ext cx="806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3336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теста Дики и Фуллера для ря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f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1341360"/>
            <a:ext cx="8064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uller    d.profits, trend re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ckey-Fuller test for unit root                   Number of obs   =        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est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% Critical       5% Critical      10%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atistic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Value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alue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Z(t)             -6.948            -4.071            -3.464            -3.1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Kinnon approximate p-value for Z(t) =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2.profits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Coef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Std. Err.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t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P&gt;t     [95% Conf. 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.profi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1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.7348941   .1057679    -6.95   0.000    -.9452621   -.52452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trend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.0186699   .0395891    -0.47   0.638    -.0974111    .06007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cons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061981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999053     1.03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305    -1.914056    6.038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1603440"/>
            <a:ext cx="806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68360" y="404640"/>
            <a:ext cx="799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дение теста Дики и Фуллера для первых разностей ряд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profi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1052640"/>
            <a:ext cx="8064360" cy="34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g  dividend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rof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       M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umber of ob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    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F(  1,    86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142.2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79795.167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 79795.167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rob &gt; 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idua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8254.275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6  561.09622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-squar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0.62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dj R-square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0.61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8049.44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7  1471.8326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oot MS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23.6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vidends   Coef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Std. Err.      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P&gt;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[95% Conf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rofit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628156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.0526742    11.9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523443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.73286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con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3.31143   7.362611    -1.8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7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27.94782        1.32495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1603440"/>
            <a:ext cx="806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3336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регрессии  dividends на pro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5300640"/>
            <a:ext cx="712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estat dwat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urbin-Watson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d-statistic (2,88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07121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5640" y="1916280"/>
            <a:ext cx="8064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8360" y="1603440"/>
            <a:ext cx="806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40464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статков регресс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71640" y="1413000"/>
            <a:ext cx="6840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916280"/>
            <a:ext cx="8064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603440"/>
            <a:ext cx="806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8360" y="26028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ка нестационарности остат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71640" y="1125360"/>
            <a:ext cx="68403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uller  res1,  re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ckey-Fuller test for unit root                   Number of obs   =        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est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1% Critical       5% Critical      10%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atistic                          Value               Value                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Z(t)             -0.900            -3.528            -2.900            -2.5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Kinnon approximate p-value for Z(t) = 0.78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.res1       Coef.       Std. Err.      t        P&gt;t     [95% Conf. 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1.         -.026193    .0291023    -0.90   0.371    -.0840561    .03167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cons    .2493691   .6779492     0.37   0.714    -1.098575    1.5973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916280"/>
            <a:ext cx="8064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8360" y="1603440"/>
            <a:ext cx="8064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333360"/>
            <a:ext cx="79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ка нестационарности остатк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71640" y="1484280"/>
            <a:ext cx="67690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uller  res1, trend  re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ckey-Fuller test for unit root                   Number of obs   =        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est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% Critical       5% Critical      10%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atistic                         Value                Value               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Z(t)             -1.782            -4.069            -3.463            -3.1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Kinnon approximate p-value for Z(t) = 0.71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.res1      Coef.         Std. Err.       t       P&gt;t     [95% Conf. 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1.         -.0587718   .0329729    -1.78   0.078     -.124342    .00679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trend    .0607841   .0305824     1.99    0.050    -.0000324    .1216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cons    -2.437218   1.507086    -1.62   0.110    -5.434224    .559787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ение граф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620640"/>
            <a:ext cx="7704000" cy="47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менные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DP – gross domestic produc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I – personal disposal incom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E – personal consumption expenditur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S – corporate profits after tax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IVIDENDS – net corporate dividend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ll data are in billions of 1987 dollars and are for the quarterly periods of 1970-1991, for a total of 88 quarterly observ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ение граф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32000" y="1916280"/>
            <a:ext cx="6696000" cy="4537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5640" y="620640"/>
            <a:ext cx="5416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а для построения графиков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 gdp pdi pc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роение граф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620640"/>
            <a:ext cx="5416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а для построения графиков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e profits dividends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042920" y="1635120"/>
            <a:ext cx="6086520" cy="46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33360"/>
            <a:ext cx="806436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а для задания временной структуры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se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а для проведения теста Дики и Фулле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я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dp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dfuller gdp, trend re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2349360"/>
            <a:ext cx="80643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fuller  gdp, trend re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ickey-Fuller test for unit root                   Number of obs   =        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Test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1% Critical       5% Critical      10%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tatistic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Valu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Value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Z(t)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-1.625            -4.069            -3.463            -3.1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MacKinnon approximate p-value for Z(t) = 0.782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.gdp              Coef.   Std. Err.      t    P&gt;t     [95% Conf. Interva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gd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L1.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.0603169   .0371113    -1.63   0.108    -.1341169    .013483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trend    1.477641   .9172438     1.61   0.111     -.346399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3.3016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cons    190.3836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103.5257     1.84   0.069    -15.48858    396.255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62064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а для проверки стационарности ряда из разност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fuller d.gdp, trend re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1700280"/>
            <a:ext cx="8064360" cy="46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fuller  d.gdp, trend reg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ickey-Fuller test for unit root                   Number of obs   =        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Test         1% Critical       5% Critical      10%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tatistic           Value             Value            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Z(t)             -6.588            -4.071            -3.464            -3.15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MacKinnon approximate p-value for Z(t) = 0.0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2.gdp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Coef.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td. Err.      t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&gt;t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[95% Conf. Interval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.gdp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L1.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.6824588   .1035842    -6.59   0.000    -.8884836   -.476434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tre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-.0282465   .1497305    -0.19   0.851    -.3260544    .26956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_cons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17.22668    7.84189     2.20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0.031      1.62948    32.8238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5640" y="333360"/>
            <a:ext cx="806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а для проведения теста Дики и Фулле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яд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dfuller pce, trend re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1280" y="1628640"/>
            <a:ext cx="8064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uller  pce, trend re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ckey-Fuller test for unit root                   Number of obs   =        8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est         1% Critical       5% Critical      10%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atistic           Value             Value            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Z(t)             -1.376            -4.069            -3.463            -3.1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Kinnon approximate p-value for Z(t) = 0.867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.pce         Coef.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d. Err.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&gt;t     [95% Conf. 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1.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.0444637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.0323122    -1.38   0.172      -.10872    .01979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trend    .7987188   .5871058     1.36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177    -.3688055    1.9662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cons    94.19098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56.24132     1.67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98    -17.65105     206.0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5640" y="40464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а для проверки стационарности ряда из разностей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fuller d.pce, trend reg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700280"/>
            <a:ext cx="80643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uller d.pce, trend reg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ickey-Fuller test for unit root                   Number of obs   =        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--------- Interpolated Dickey-Fuller 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est         1% Critical       5% Critical      10%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atistic           Value             Value            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Z(t)             -7.567            -4.071            -3.464            -3.1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acKinnon approximate p-value for Z(t) =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2.pce        Coef.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d. Err.      t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P&gt;t     [95% Conf. 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.p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1.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.819919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.1083518    -7.57   0.000    -1.035426   -.60441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trend   -.0123328    .079425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0.16   0.877    -.1703059    .14564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cons    14.47549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.364522     3.32   0.001     5.794632    23.156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регресс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620640"/>
            <a:ext cx="806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манда для оценки регресс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E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DI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 pce d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11280" y="1700280"/>
            <a:ext cx="8064360" cy="449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ce pd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f       M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Number of ob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    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F(  1,    86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14369.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548225.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 18548225.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rob &gt; F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esidua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1012.43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6  1290.8422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-square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0.994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dj R-square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0.99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659238.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87  214474.00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oot MS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=  35.9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c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oef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d. Err.      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&gt;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[95% Conf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terva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d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967249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0080691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19.8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951209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98329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_con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71.441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2.91726    -7.4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216.9992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25.88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6T17:06:05Z</dcterms:modified>
  <cp:revision>131</cp:revision>
  <dc:subject/>
  <dc:title>No Slide Title</dc:title>
</cp:coreProperties>
</file>