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F9E-4374-414C-A09B-258B0DB8B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0DC-7C1E-4FFA-A39E-C334BC27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0D51-32DB-441C-A462-3FE929076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F265-A860-49F3-AAF4-550C2F379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4D40-384F-4771-87F5-DCDDA1620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C625-67EE-4F3F-A959-1BA7716AA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D4B-993B-4F4F-A485-BB51F659B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5C3-88D2-48DA-B5AB-47AB02C88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9D75-B285-4615-A01A-1F4946A7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9FB1-1A58-4900-AF6E-97568DD7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76D5-9F6F-4698-B0E8-B2610044E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58D-EA40-452E-99A2-37DA1F74A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A8CF-5FAD-4B52-8206-A311DB2E52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8087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интеграция временных ряд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Дики-Фуллера для оста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855720"/>
            <a:ext cx="75614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t-Statistic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Prob.*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Augmented Dickey-Fuller test statistic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2.83731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0.192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Test critical values: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% leve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4.18091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% leve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3.51552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0% level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3.188259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*MacKinnon (1996) one-sided p-values.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Augmented Dickey-Fuller Test Equa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Dependent Variable: D(RES1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Method: Least Squar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Date: 01/25/09   Time: 13:1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Sample(adjusted): 1960 200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Included observations: 44 after adjusting endpoint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Coefficien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Std. Err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t-Statistic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Prob.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RES1(-1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0.32470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.114442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2.83731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.0070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.001984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.00379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.523236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.6036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@TREND(1959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7.90E-05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.00014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0.537344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.59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R-square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.173706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Mean dependent va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9.39E-05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Adjusted R-square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.133399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S.D. dependent var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.013257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S.E. of regress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.012341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Akaike info criter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5.88603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Sum squared resi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.006244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Schwarz criter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5.764383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Log likelihood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32.4927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F-statistic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.309585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Durbin-Watson stat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.838424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Prob(F-statistic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0.020010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pendent Variable: LGHOU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hod: Least Squar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mple(adjusted): 1960 200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cluded observations: 44 after adjusting endpoi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vergence achieved after 9 iteration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Coeffici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. Err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t-Statist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.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0.15481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5492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0.436203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65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GDPI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1.0113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02182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46.34420             0.00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GPRHOUS    -0.47807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09157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-5.22046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00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(1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7190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115689                      6.21581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00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-squar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99920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Mean dependent v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.37905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sted R-square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99914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S.D. dependent va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42186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.E. of regress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01233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Akaike info criter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5.866567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m squared resi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00608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Schwarz criter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5.70436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 likelihoo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33.064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F-statistic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6757.2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urbin-Watson sta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90108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Prob(F-statistic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0000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грессия с остаткам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(1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орреляционная функ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672400" y="6004080"/>
            <a:ext cx="46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л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5760" y="620640"/>
            <a:ext cx="8629560" cy="5916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4067280" y="1700280"/>
            <a:ext cx="460836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Estimation Comma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LS LGHOUS C LGDPI LGPRHOUS AR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Estimation Equa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LGHOUS = C(1) + C(2)*LGDPI + C(3)*LGPRHOUS + [AR(1)=C(4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Substituted Coeffici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LGHOUS = 0.1548173209 + 1.011299876*LGDPI - 0.4780793371*LGPRHOUS + [AR(1)=0.7190978174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ная автокорреляционная функ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интегрированные временные ря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1052640"/>
            <a:ext cx="85327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I(d),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I(d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a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b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I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 ряд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ываются коинтегрированны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1680" y="5445000"/>
            <a:ext cx="853272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енные ряды одного порядка, коэффициент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является значимым, а ошибк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стационарны, то имеет место мнимая регресси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urious regress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384720" y="1676520"/>
                <a:ext cx="237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429000" y="2438280"/>
                <a:ext cx="23623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интегр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1680" y="5445000"/>
            <a:ext cx="853272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ременной ря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является стационарным, то имеет место коинтеграц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384720" y="1676520"/>
                <a:ext cx="237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429000" y="2438280"/>
                <a:ext cx="23623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интегр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1680" y="5445000"/>
            <a:ext cx="8532720" cy="11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F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F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яда остатков должны достаточно быстро убыват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384720" y="1676520"/>
                <a:ext cx="237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3429000" y="2438280"/>
                <a:ext cx="23623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интегр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557360"/>
            <a:ext cx="7632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татки регрессии проверяются на стационарност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днак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F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тесты применять нельзя. МНК «выбирает» остатки так, чтобы они имели наименьшую возможную дисперсию, поэтому, даже если переменные Х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е коинтегрированы, МНК делает остатки похожими на стационарные. Поэтому при использован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F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ста гипотеза о нестационарности отвергается слишком часто (и, соответственно, ошибочно принимается гипотеза о наличии коинтеграции). Надо использовать таблиц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cKinn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3313080" y="836640"/>
                <a:ext cx="2374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интегра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125360"/>
            <a:ext cx="84978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ependent Variable: LGHOU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ethod: Least Square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ate: 01/25/09   Time: 13:26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ample: 1959 200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Included observations: 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Variabl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oeffici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td. Erro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t-Statisti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Prob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00562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16790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03350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973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GDPI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031918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00664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55.1976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000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GPRHOUS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0.483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04178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11.57056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-square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99858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Mean dependent var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.35933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Adjusted R-square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99851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S.D. dependent var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43752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.E. of regressio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016859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Akaike info criterio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5.26357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Sum squared resi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011937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Schwarz criterio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5.14313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Log likelihood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21.430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F-statistic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4797.0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Durbin-Watson stat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633113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Prob(F-statistic)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0.00000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ирование нестационарности остат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125360"/>
            <a:ext cx="889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376200" y="549360"/>
            <a:ext cx="9753480" cy="706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8748720" y="6237360"/>
            <a:ext cx="3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ирование нестационар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0920" y="1125360"/>
            <a:ext cx="889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00720" y="1268280"/>
            <a:ext cx="46432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Estimation Comman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LS LGHOUS C LGDPI LGPRH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Estimation Equati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LGHOUS = C(1) + C(2)*LGDPI + C(3)*LGPRH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Substituted Coeffici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=====================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LGHOUS = 0.005624988481 + 1.031917839*LGDPI - 0.4834214625*LGPRHO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820000" y="616572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9T13:24:56Z</dcterms:created>
  <dc:creator>Thomas Dougherty</dc:creator>
  <dc:description/>
  <dc:language>en-US</dc:language>
  <cp:lastModifiedBy>Demidov</cp:lastModifiedBy>
  <dcterms:modified xsi:type="dcterms:W3CDTF">2009-01-27T06:38:59Z</dcterms:modified>
  <cp:revision>115</cp:revision>
  <dc:subject/>
  <dc:title>No Slide Title</dc:title>
</cp:coreProperties>
</file>