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FCF-39A1-40C1-A28D-A0A212362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9C12-A497-4D56-8CA3-3E726886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3B2F-E20B-4015-BA33-4832E2A8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5792-6691-4A84-AD72-F399A7544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FCC-0936-48E0-A068-3921A680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ED4-A3B2-4419-93AC-4D62F64C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28D-00E6-46D6-8800-BD48EAD9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1FF4-36EB-429F-B429-61B0E4D3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41A-6383-4AA9-861D-6CB1CFA3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0E78-BA30-4732-AF9E-B9A69025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220F-6651-4980-A796-996BB42C8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F51C-4D2C-4176-86AC-D3FC6257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F9F6-6D48-4606-B813-A94039495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екц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8087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 делать при наличии автокорреляции возмущений первого порядк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делать при наличии автокорреляции возмущений первого порядка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1680" y="1413000"/>
            <a:ext cx="853272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образовывать исходные данн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ть стандартные ошибки коэффициентов в форме Невье – Вес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ть для оценки коэффициентов метод максимального правдоподоб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ранение автокорреля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1547640" y="1916280"/>
                <a:ext cx="2374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5364000" y="1916280"/>
                <a:ext cx="17402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5788080"/>
            <a:ext cx="85327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дположим, для марковской схемы известно значение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692360" y="907920"/>
            <a:ext cx="259056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92720" y="981000"/>
            <a:ext cx="198108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ранение автокорреля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1763640" y="981000"/>
                <a:ext cx="2374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435640" y="981000"/>
                <a:ext cx="17398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2411280" y="2276640"/>
                <a:ext cx="3670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ρ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ρ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692360" y="981000"/>
            <a:ext cx="259056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907920"/>
            <a:ext cx="198108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ранение автокорреля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1692360" y="1052640"/>
                <a:ext cx="2374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364000" y="981000"/>
                <a:ext cx="1740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2736720" y="1844640"/>
                <a:ext cx="3670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ρ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ρ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420920" y="2852640"/>
                <a:ext cx="63007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ρ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новой модели остатки свободны от автокорреля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446120" y="3573360"/>
                <a:ext cx="599940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692360" y="981000"/>
            <a:ext cx="259056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92720" y="907920"/>
            <a:ext cx="198108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ранение автокорреля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1692360" y="1052640"/>
                <a:ext cx="2374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364000" y="981000"/>
                <a:ext cx="1740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1680" y="5788080"/>
            <a:ext cx="85327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модели с новыми переменными возмущения удовлетворяют условию теоремы Гаусса - Марков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1258920" y="2276640"/>
                <a:ext cx="5999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258920" y="2997360"/>
                <a:ext cx="41702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177920" y="3716280"/>
                <a:ext cx="4479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332000" y="4524480"/>
                <a:ext cx="36003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92360" y="981000"/>
            <a:ext cx="259056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92720" y="907920"/>
            <a:ext cx="198108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ранение автокорреля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692360" y="1052640"/>
                <a:ext cx="2374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364000" y="981000"/>
                <a:ext cx="1740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не потерять первое наблюдение, используем поправку Прайса – Уинсто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258920" y="2276640"/>
                <a:ext cx="41702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181160" y="3141720"/>
                <a:ext cx="4479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87280" y="5084640"/>
                <a:ext cx="360072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187280" y="3989520"/>
                <a:ext cx="2592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4454640" y="3933720"/>
                <a:ext cx="2827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92360" y="981000"/>
            <a:ext cx="259056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907920"/>
            <a:ext cx="198108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ранение автокорреля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692360" y="1052640"/>
                <a:ext cx="23749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364000" y="981000"/>
                <a:ext cx="174024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01680" y="5788080"/>
            <a:ext cx="8532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о значение параметра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не извест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187280" y="1773360"/>
                <a:ext cx="59994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ρ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258920" y="2349360"/>
                <a:ext cx="41702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Y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258920" y="3068640"/>
                <a:ext cx="43243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ρX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03280" y="4941720"/>
                <a:ext cx="36003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187280" y="3989520"/>
                <a:ext cx="2592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4454640" y="3933720"/>
                <a:ext cx="2827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ρ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9T13:24:56Z</dcterms:created>
  <dc:creator>Thomas Dougherty</dc:creator>
  <dc:description/>
  <dc:language>en-US</dc:language>
  <cp:lastModifiedBy>Demidov</cp:lastModifiedBy>
  <dcterms:modified xsi:type="dcterms:W3CDTF">2009-01-21T11:43:31Z</dcterms:modified>
  <cp:revision>72</cp:revision>
  <dc:subject/>
  <dc:title>No Slide Title</dc:title>
</cp:coreProperties>
</file>