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8BF-F839-45CB-996E-2928243D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DF6B-E49B-4A96-A8DE-6458D81C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FE92-8327-4559-A93B-BF4808349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CF4-3AFB-4FCD-A19C-084B6378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BCA5-16D5-419F-B749-70D79EC63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D6A9-4DB0-4AE1-AB6D-217C5728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CA45-7213-4072-9247-24ED4677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DE62-70DB-4445-9DAD-9CBD87752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B66D-782D-4298-8981-A1A67B8E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3A9E-B00E-495A-94B5-911972F4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3A4D-9768-44DF-9A2A-DC1225FD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56C-B44A-4DDF-B71B-A4D06EE3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F1AC-BAE1-43EA-9E6D-89523CF36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ст сери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с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836640"/>
            <a:ext cx="853272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рия остатков – набор последовательных остатков одного знака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графике остатков есть длинные серии положительных остатков или длинные серии отрицательных остатков, т.е. число серий мало, то имеет место положительная автокорреля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в графике остатков знаки остатков часто меняются, т.е. число серий велико, то имеет место отрицательная автокорреля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1680" y="1989000"/>
            <a:ext cx="853272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ются параметры уравнения регрессии. Сохраняются остат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тмечаем знаки остатков, их абсолютные значения нас не интересую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наблюдений (и всех знаков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знаков «+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знаков «-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с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при уровне значимости 0.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льное описание теста с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орреляции нет (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еет место автокорреляция первого поряд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755640" y="5013360"/>
          <a:ext cx="3672000" cy="1552680"/>
        </p:xfrm>
        <a:graphic>
          <a:graphicData uri="http://schemas.openxmlformats.org/drawingml/2006/table">
            <a:tbl>
              <a:tblPr/>
              <a:tblGrid>
                <a:gridCol w="1008000"/>
                <a:gridCol w="1835280"/>
                <a:gridCol w="82872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i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K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1680" y="620640"/>
            <a:ext cx="85327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)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имеет место положительная автокорреля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) Есл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≥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 имеет место отрицательная автокорреля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альное описание теста с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1680" y="620640"/>
            <a:ext cx="85327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и остатков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+ + + + + + + - + + + - - - - - + + + 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14,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6, K =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аблиц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= 5,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K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&gt;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меет место положительная автокорреляц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1680" y="620640"/>
            <a:ext cx="853272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таблиц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N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20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.е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≤ 4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больши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спределение количества серий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лизко к нормальном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жно построить, например, 95 % доверительный интервал для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значение тестовой статисти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падает в этот доверительный интервал, то гипотез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б отсутствии автокорреляции не отверг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865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86800" y="6553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 сер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347760" y="2708280"/>
                <a:ext cx="59990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6T17:07:25Z</dcterms:modified>
  <cp:revision>78</cp:revision>
  <dc:subject/>
  <dc:title>No Slide Title</dc:title>
</cp:coreProperties>
</file>