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EB10-8FFC-450F-B686-1F54CC0B4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A2F-1D65-480C-991C-2CF248AB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D637-B193-430C-97D7-4521AA29E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6CA-751A-4C0F-9D05-7B7F1091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27F-C0C7-4588-91A2-B5B396E0D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27C5-69CA-44B7-B4C9-763E3F30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49F2-3A4F-4249-A297-943B847B8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C71-1465-4960-BCC4-B1DEFBF0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1F3C-8CCB-4441-B763-C4E83E47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8108-A829-4079-9755-BEA86309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605A-1800-4D2B-B2AE-D0043C77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E760-8B25-447F-B0D2-722E15B7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2DC8-4EA5-426A-A3FD-7C74C6C7B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8087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ценка параметра автокорреля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ценка параметра автокорре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1052640"/>
            <a:ext cx="8532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ы нахождения оценок параметра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Итерационная процедура Кокрена – Уорку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Двухшаговая процедура Дарбин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Метод поиска Хилдрет – Лю на сетк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Метод максимального правдоподобия одновременного оценивания коэффициентов регрессии и параметра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971640" y="1341360"/>
                <a:ext cx="2016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≈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терационная процедура Кокрена – Уорку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1680" y="1052640"/>
            <a:ext cx="8532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ем параметры уравнения регресс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храняем остат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) Оцениваем параметр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в регресси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+ u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олучаем оценку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) Преобразуем исходные данные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Повторяем пункты 1 и 2, находим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)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 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| &lt;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ем заранее), то оценка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авна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аче выполняем вышеописанные действия, пока последнее неравенство не будет иметь мес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755640" y="1557360"/>
                <a:ext cx="237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26920" y="4076640"/>
                <a:ext cx="2256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3559320" y="4149720"/>
                <a:ext cx="2563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вухшаговая процедура Дарб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1680" y="1052640"/>
            <a:ext cx="8532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носи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а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ем параметр пере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163520" y="1052640"/>
                <a:ext cx="5999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55640" y="2781360"/>
                <a:ext cx="5999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поиска Хилдрет – Лю на сет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1680" y="1052640"/>
            <a:ext cx="853272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биваем отрезок для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-1, 1) на равные интерва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Для каждого значения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0.1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±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0.2 и т.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оцениваем параметры регрессии (*), находи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ыбираем значение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и котор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S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маль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) При необходимости еще измельчаем сетку в районе выбранного значения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повторяем вышеописанный процесс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55680" indent="-3556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777960" y="1052640"/>
                <a:ext cx="67705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∗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3:24:56Z</dcterms:created>
  <dc:creator>Thomas Dougherty</dc:creator>
  <dc:description/>
  <dc:language>en-US</dc:language>
  <cp:lastModifiedBy>Demidov</cp:lastModifiedBy>
  <dcterms:modified xsi:type="dcterms:W3CDTF">2009-01-26T17:10:31Z</dcterms:modified>
  <cp:revision>69</cp:revision>
  <dc:subject/>
  <dc:title>No Slide Title</dc:title>
</cp:coreProperties>
</file>