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029B-13B0-4A23-B2E4-1AF81EF8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5300-F0DC-4BDF-9B7C-10C57FB6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4DB-E4AC-4762-BE93-6433D5591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895-F166-417F-85EE-117AA5986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D80-F83F-4329-9759-2175BA17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B0B8-9226-4EBF-93CC-2E5623CBB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36EB-E538-4341-9C4E-2345B4E8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5451-03D5-4749-906C-BF325DE8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E03F-75FA-4373-9178-C648EF36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2914-1232-444F-B036-537C3C00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A7FE-9BCE-414D-AE05-A801B7CB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22B3-52B3-4644-9595-AA1934BA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8584-C702-4E39-951A-BBA90CE33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ционарные и нестационарные временные ря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 нестационарного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809880" y="27576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w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564000" y="1197000"/>
                <a:ext cx="2763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39640" y="5661000"/>
            <a:ext cx="728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роцесс случайного блужда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ndom wa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 нестационарного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301680" y="5786280"/>
            <a:ext cx="853272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роцесс случайного блуждания с дрейф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ndom wal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drif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1461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walk with dr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055960" y="836640"/>
                <a:ext cx="3305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876920" y="146196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walk with dr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4280" y="420516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ndom wal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38680" y="2757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ionary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я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зывается стационарным (в широком смысле), ес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все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ar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и все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v(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t+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ависит только от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 не зависит о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ционарные временные ря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16000" y="836640"/>
                <a:ext cx="51847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стационарного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403280" y="1989000"/>
                <a:ext cx="460872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≠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1116000" y="4437000"/>
                <a:ext cx="44640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900000" y="2205000"/>
                <a:ext cx="4419720" cy="13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826920" y="981000"/>
                <a:ext cx="4077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900000" y="1628640"/>
                <a:ext cx="24256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" name=""/>
          <p:cNvSpPr/>
          <p:nvPr/>
        </p:nvSpPr>
        <p:spPr>
          <a:xfrm>
            <a:off x="2819520" y="4038480"/>
            <a:ext cx="4647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900000" y="4292640"/>
                <a:ext cx="641520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55640" y="1628640"/>
                <a:ext cx="4968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26920" y="981000"/>
                <a:ext cx="4077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4038480"/>
            <a:ext cx="4647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9640" y="2276640"/>
                <a:ext cx="6838920" cy="37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стационар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95360" y="765000"/>
                <a:ext cx="40766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539640" y="1341360"/>
                <a:ext cx="4419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β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68360" y="1916280"/>
                <a:ext cx="4895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bSup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Sup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539640" y="2743200"/>
                <a:ext cx="770436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b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→</m:t>
                        </m:r>
                        <m:f>
                          <m:num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68360" y="4221000"/>
                <a:ext cx="59752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Аналогично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v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f>
                      <m:num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рафик стационарного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80" y="5786280"/>
            <a:ext cx="853272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5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GB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= 0.7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325600" y="836640"/>
                <a:ext cx="27640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нестационарного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03280" y="1989000"/>
                <a:ext cx="460872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ε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cov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ри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≠</m:t>
                        </m:r>
                        <m:r>
                          <m:t xml:space="preserve">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1258920" y="1341360"/>
                <a:ext cx="3048120" cy="23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 </m:t>
                        </m:r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ε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нестационарного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32000" y="4221000"/>
                <a:ext cx="2448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tσ</m:t>
                        </m:r>
                      </m:e>
                      <m:sub>
                        <m:r>
                          <m:t xml:space="preserve">ε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894600" y="5513400"/>
            <a:ext cx="66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роцесс случайного блужда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Random wal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5:05:46Z</dcterms:modified>
  <cp:revision>92</cp:revision>
  <dc:subject/>
  <dc:title>No Slide Title</dc:title>
</cp:coreProperties>
</file>