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52CB-36E8-4003-9E03-F649C579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26B5-7A49-41BA-86D5-36ADA149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4CAC-A396-4EE5-B4D8-9CBE09056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8CDC-D004-470A-9B73-686FFB300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8238-9995-490E-8891-3A15CB8B8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5125-45C6-43FA-B4F0-375FC7DD8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A594-8812-4EB5-815A-BFC5554A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1A99-DAAE-41DC-BEB4-D314BED3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00B1-6F10-4128-9209-E24E235E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1A35-A144-479E-AA89-82D32EDA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E5BE-FDED-4C42-98C0-B72BD2B6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56FE-C945-4F1B-A55D-45CF8E68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D2C4-44DD-4BED-8CCD-449B2F1D3C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екция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280" y="1989000"/>
            <a:ext cx="780876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иды нестационарных временных рядов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S – trend stat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от ряд становится стационарным после выделения трен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стационарные временные ряды тип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611280" y="1700280"/>
                <a:ext cx="71136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S – difference stat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от ряд нельзя сделать стационарным, выделив тренд. Этот ряд становится стационарным в разностя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стационарные временные ряды тип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468360" y="1989000"/>
                <a:ext cx="23241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95280" y="4076640"/>
                <a:ext cx="3162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95280" y="4869000"/>
                <a:ext cx="16002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468360" y="5589720"/>
                <a:ext cx="1219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r>
                              <m:t xml:space="preserve">Δ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ε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грированные временные ря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390840" y="1447920"/>
                <a:ext cx="23241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1680" y="3716280"/>
            <a:ext cx="853272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учайное блуждание с дрейфом – пример нестационарного временного ряда со стационарным рядом его первых разностей. Это интегрированный ряд первого поряд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7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965320" y="2133720"/>
                <a:ext cx="3162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059280" y="2763720"/>
                <a:ext cx="16048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грированные временные ря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1680" y="1052640"/>
            <a:ext cx="853272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ременной ряд является нестационарным, а ряд его первых разностей стационарным, то такой ряд называется интегрированным рядом первого поряд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ременной ряд и ряд его первых разностей являются нестационарными, а ряд из разностей от первых разностей является стационарным, то такой ряд называется интегрированным рядом второго поряд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95280" y="2637000"/>
                <a:ext cx="160488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436680" y="5300640"/>
                <a:ext cx="16700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тегрированные временные ря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1680" y="1052640"/>
            <a:ext cx="853272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ционарный временной ряд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ременной ряд и его разности до порядк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 – 1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ключительно являются нестационарными, а разность порядк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является стационарной, то этот временной ряд является интегрированным порядк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859280" y="1052640"/>
                <a:ext cx="167004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468360" y="4653000"/>
                <a:ext cx="170172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войства интегрированных временных ря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1680" y="1052640"/>
            <a:ext cx="853272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~ I(0), 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~ I(1)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~ I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~ I(d)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a + b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~ I(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~ I(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~ I(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a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b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~ I(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max(d1,d2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~ I(d), 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~ I(d)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a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b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~ I(d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жет быть меньш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интегрированные временные ря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1680" y="1052640"/>
            <a:ext cx="8532720" cy="55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~ I(d), 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~ I(d)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a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+ b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~ I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то ряд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зываются коинтегрированным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9T13:24:56Z</dcterms:created>
  <dc:creator>Thomas Dougherty</dc:creator>
  <dc:description/>
  <dc:language>en-US</dc:language>
  <cp:lastModifiedBy>Demidov</cp:lastModifiedBy>
  <dcterms:modified xsi:type="dcterms:W3CDTF">2009-01-26T15:39:17Z</dcterms:modified>
  <cp:revision>104</cp:revision>
  <dc:subject/>
  <dc:title>No Slide Title</dc:title>
</cp:coreProperties>
</file>