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631F-508F-4442-B565-5ADC14970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3753-744B-4FB5-B6D0-3062EEA5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5714-AEC6-4651-93E6-00F78FB36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36ED-C351-4E03-8DCF-B6251BF5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88EC-FC5D-4E8C-911D-481D14BE8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8DEF-B5CB-4C9E-B2E3-9B771FD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1E71-15A3-4E62-AD77-07E38822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CDDD-1660-4CD2-A51E-E44D7932C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5CBE-564D-4822-BA89-3A9D9C48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E3DD-68D0-404E-A662-CD31489E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2E32-D12B-4595-ACE2-A2184D63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146D-B99C-46A9-B166-4A21B81F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E7B5-4D46-4E9A-8207-AECCBE2FD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0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ременные ряд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ой ряд с трендом 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нотонно изменяется со временем)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073160" y="1052640"/>
          <a:ext cx="6996240" cy="403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3160" y="1052640"/>
                    <a:ext cx="6996240" cy="40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ой ряд с трендом и сезонной компонен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069920" y="1197000"/>
          <a:ext cx="7004160" cy="418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9920" y="1197000"/>
                    <a:ext cx="700416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ой ряд с трендом и циклической компонен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860400" y="1197000"/>
          <a:ext cx="7421760" cy="42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0400" y="1197000"/>
                    <a:ext cx="7421760" cy="42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оненты временного 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ременной ряд с трендом и случайной компонент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826920" y="765000"/>
          <a:ext cx="7728120" cy="4615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28120" cy="461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4:25:58Z</dcterms:modified>
  <cp:revision>79</cp:revision>
  <dc:subject/>
  <dc:title>No Slide Title</dc:title>
</cp:coreProperties>
</file>